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F0D8-73E6-4797-BB85-EE3AB31765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66E004-485D-4F83-A0E7-DA08183C59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1C2736-2A93-4A75-9A7D-6F970C85BD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9801C1-0095-4C68-B803-6AEDC195F4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5C5A90-51C2-4116-B398-C9C4CADC01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EF10C5-4B35-47A2-8E58-722A447ECB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3E24D-8C23-4677-89E4-2002CA692A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810194-A361-4B18-AF0E-AEE8674459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006F70-D51F-4523-88D0-0B1A7E0C1C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8D40A8-D37B-4FD4-B280-2BCCD124EB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1581FF-A09E-48EB-8648-8D321BC804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D07A11-8921-4E17-ADF7-8EB4D20F52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12735A-1908-4815-8199-5235C606CE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03848F-BB33-4B66-BE85-FBA6EB8AAD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99C44A-1633-4DB8-A21E-AF01411FA5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624C02-7361-4D07-8410-750B0BDDF4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097D0D-174B-4903-81A6-D4F2896261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9D5044-8422-4D60-B1BC-DBCB1B8399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B14F3A-AE42-4471-BF6C-F8D053F96B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245B6A-922F-404D-836A-9F75BECAED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EFA40F-88C8-4EF0-8CF5-4478E87394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DACE00-90AE-4FA7-B018-5509A8CA16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7DA124-F2EF-444C-88BA-668162F643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E6E211-0784-441C-8410-710EF89FCC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850A39-FD2E-4F90-83B7-26288A473D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75195A-493D-4214-A58E-534CDACE7C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E1625-DDAA-493E-90FF-A85785ADDD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5E3F14-EEA0-45EA-B542-B419F7A3E2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E4BE58-8D2F-416A-9C44-95C3CF2B5B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1E207-12DA-48F1-A59F-BD3A25A7B0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A63206-3436-472B-8120-12AABD32CF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710C1C-3BC6-4886-8D93-EB8A29A08A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CD9B8A-9C25-4337-9E3F-34306BAF07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61827B-C099-406D-A56C-687E5F32AB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86F00A-D62A-45C0-AFF5-96E4D72063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FE9BAA-B633-44D0-992C-3E85FB3415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8A183B-6E25-4357-8A31-8EC5C1E9D6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DD2EAC-DAE0-4061-A14F-69A21271DC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C62AC9-46E9-42C9-ADE9-54ECE5736D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6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Tahoma"/>
              </a:rPr>
              <a:t>Centra stores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Tahoma"/>
              </a:rPr>
              <a:t>13 million investment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Tahoma"/>
              </a:rPr>
              <a:t>For size of investment and supposed focus – high degree of diversity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Tahoma"/>
              </a:rPr>
              <a:t>JLO’s seamless in some areas- non-existent and not welcome in others [this has to change if we want to build on our strengths and have the best comprehensive Diversion system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SCAN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SHOWS THE VARIETY IN THE NUMBERS OF YOUNG PEOPLE ENGAG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 – 300 – or 5 hours per week compared to 6 minu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 u="sng">
                <a:solidFill>
                  <a:srgbClr val="000000"/>
                </a:solidFill>
                <a:uFillTx/>
                <a:latin typeface="Tahoma"/>
              </a:rPr>
              <a:t>Direct from baseline analysis SCAN]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902389-8A7D-4106-8548-9BDCB9C516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549-83E4-4372-B331-EB212898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B03-F351-434F-8599-176CD2A2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33B-3341-4EC9-9BA6-BB38DE1E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5D2-FFD9-4533-9F0F-9E0DA156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238-81FB-421E-AC50-60710C29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A24-F033-4E5A-A9B0-22F42FB5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1D0-A1F6-4551-A737-E505A7D4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A47-20AD-425D-955D-5D677694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769-9B24-4AB6-BBFA-D39D1DBD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C00-FAB9-4AF3-A849-AD5BCF70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8EC-7ADB-4A3F-83B6-1DF1013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F01-3094-4756-AAD2-08C51726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4AEB-A38B-4016-87DA-1C12B1955B6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yjs.ie/" TargetMode="External"/><Relationship Id="rId3" Type="http://schemas.openxmlformats.org/officeDocument/2006/relationships/hyperlink" Target="mailto:Community.iyjs@justice.i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03280" y="2565000"/>
            <a:ext cx="64072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iyjs.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Community.iyjs@justice.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Joe Gavi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Community Programmes Uni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Irish Youth Justice Servi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4" descr="IYJS_Logo_Small_Title"/>
          <p:cNvPicPr/>
          <p:nvPr/>
        </p:nvPicPr>
        <p:blipFill>
          <a:blip r:embed="rId4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ahoma"/>
              </a:rPr>
              <a:t>European Social Fund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ahoma"/>
              </a:rPr>
              <a:t>Garda Youth Diversion Projec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7" descr="ESF logo - Harp"/>
          <p:cNvPicPr/>
          <p:nvPr/>
        </p:nvPicPr>
        <p:blipFill>
          <a:blip r:embed="rId5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esf-logo Flag"/>
          <p:cNvPicPr/>
          <p:nvPr/>
        </p:nvPicPr>
        <p:blipFill>
          <a:blip r:embed="rId6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arget Participant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ong term goal of employ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ocial Inclu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12 – 17 year ol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- Primary target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- Secondary target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Referrals from Garda and other sour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ub Measure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ersonal Development / IT for participa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24 pilot projects in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Funding made available to 80 projects in 2008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Year 3 not used y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ub Measure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dditional Worker in each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Funding made available to projects in 2008 to a maximum of €38,500 for emplo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mprove capacity of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athways to emplo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ifferences between IYJ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and other Divisions in receipt of ESF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articipants in 12 – 17 age br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election process of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ojects pre – selec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mployment issues managed at a local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20" name="Title 1"/>
          <p:cNvSpPr/>
          <p:nvPr/>
        </p:nvSpPr>
        <p:spPr>
          <a:xfrm>
            <a:off x="324000" y="692280"/>
            <a:ext cx="8189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0066"/>
                </a:solidFill>
                <a:latin typeface="Tahoma"/>
              </a:rPr>
              <a:t>Treo Nua </a:t>
            </a:r>
            <a:br>
              <a:rPr sz="4800"/>
            </a:br>
            <a:r>
              <a:rPr b="1" lang="en-IE" sz="4800" spc="-1" strike="noStrike">
                <a:solidFill>
                  <a:srgbClr val="000066"/>
                </a:solidFill>
                <a:latin typeface="Tahoma"/>
              </a:rPr>
              <a:t>Garda Youth </a:t>
            </a:r>
            <a:br>
              <a:rPr sz="4800"/>
            </a:br>
            <a:r>
              <a:rPr b="1" lang="en-IE" sz="4800" spc="-1" strike="noStrike">
                <a:solidFill>
                  <a:srgbClr val="000066"/>
                </a:solidFill>
                <a:latin typeface="Tahoma"/>
              </a:rPr>
              <a:t>Diversion Projec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ubtitle 2"/>
          <p:cNvSpPr/>
          <p:nvPr/>
        </p:nvSpPr>
        <p:spPr>
          <a:xfrm>
            <a:off x="1979640" y="3284640"/>
            <a:ext cx="58388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airéad Ní Lao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ject Coordin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28" name="Title 1"/>
          <p:cNvSpPr/>
          <p:nvPr/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Overview of 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900000" y="1197000"/>
            <a:ext cx="75567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Context; National to 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al Path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needs of the young people we work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ptoms of these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meet these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 of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ct of ES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 Development Program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36" name="Title 1"/>
          <p:cNvSpPr/>
          <p:nvPr/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Context - National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Content Placeholder 3" descr=""/>
          <p:cNvPicPr/>
          <p:nvPr/>
        </p:nvPicPr>
        <p:blipFill>
          <a:blip r:embed="rId6"/>
          <a:stretch/>
        </p:blipFill>
        <p:spPr>
          <a:xfrm>
            <a:off x="395280" y="1125360"/>
            <a:ext cx="824220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44" name="Title 1"/>
          <p:cNvSpPr/>
          <p:nvPr/>
        </p:nvSpPr>
        <p:spPr>
          <a:xfrm>
            <a:off x="539640" y="0"/>
            <a:ext cx="75567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Referral Pathw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Content Placeholder 3" descr=""/>
          <p:cNvPicPr/>
          <p:nvPr/>
        </p:nvPicPr>
        <p:blipFill>
          <a:blip r:embed="rId6"/>
          <a:stretch/>
        </p:blipFill>
        <p:spPr>
          <a:xfrm>
            <a:off x="468360" y="549360"/>
            <a:ext cx="82422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52" name="Title 1"/>
          <p:cNvSpPr/>
          <p:nvPr/>
        </p:nvSpPr>
        <p:spPr>
          <a:xfrm>
            <a:off x="0" y="0"/>
            <a:ext cx="87138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The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 most common needs of the young people in the projec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Content Placeholder 2"/>
          <p:cNvSpPr/>
          <p:nvPr/>
        </p:nvSpPr>
        <p:spPr>
          <a:xfrm>
            <a:off x="0" y="1341360"/>
            <a:ext cx="914400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s and family (informal social suppor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0480" indent="-210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rent families, lack of supervision, cramped living sp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024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024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ion, Training and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0480" indent="-210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generational unemployment, literacy/numeracy, lack of employment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024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024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 and deviant peer influ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0480" indent="-210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ulture, anti social behaviour, income available through criminal activities, distain for authority, discrimination (accents/add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60" name="Title 1"/>
          <p:cNvSpPr/>
          <p:nvPr/>
        </p:nvSpPr>
        <p:spPr>
          <a:xfrm>
            <a:off x="179280" y="0"/>
            <a:ext cx="89647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Acting out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regardless of its form or mode, is caused”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gt Brian Downey (2010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6"/>
          <a:stretch/>
        </p:blipFill>
        <p:spPr>
          <a:xfrm>
            <a:off x="179280" y="1197000"/>
            <a:ext cx="5329440" cy="37623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5651640" y="213372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reating crime will not reduce youth offending, as it is a symptom of a greater n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125360"/>
            <a:ext cx="82296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ive Office of JELR –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Principles of Children 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ed strategic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ng people (12-17) in trouble with the l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closely with OMCY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rish Youth Justice Service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69" name="Title 1"/>
          <p:cNvSpPr/>
          <p:nvPr/>
        </p:nvSpPr>
        <p:spPr>
          <a:xfrm>
            <a:off x="324000" y="0"/>
            <a:ext cx="8569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</a:rPr>
              <a:t>What are the symptoms of these needs?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Content Placeholder 2"/>
          <p:cNvSpPr/>
          <p:nvPr/>
        </p:nvSpPr>
        <p:spPr>
          <a:xfrm>
            <a:off x="179280" y="1052640"/>
            <a:ext cx="8713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-226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boundaries, need for attention, hyper vigilant (disorganized attachment), sad, depressed, poor coping strategies (drinking, aggressive behaviour), poverty (hungry, scruffy clothes), cannot take correction/lack of understanding of r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-226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rly school leaving, low literacy/numeracy levels, truancy, low self confidence, education not a priority, school is seen as a negative, teachers seen as authority figures (not necessarily trusted or lik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-226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access and acceptable use of alcohol and drugs, antisocial behaviour, offending, intergenerational unemployment, gang subculture, alcohol related crimes, criminal damage, promiscuous behaviour, distain of authority figur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77" name="Title 1"/>
          <p:cNvSpPr/>
          <p:nvPr/>
        </p:nvSpPr>
        <p:spPr>
          <a:xfrm>
            <a:off x="17928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How do we aim to meet these need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Content Placeholder 2"/>
          <p:cNvSpPr/>
          <p:nvPr/>
        </p:nvSpPr>
        <p:spPr>
          <a:xfrm>
            <a:off x="250920" y="1125360"/>
            <a:ext cx="8497800" cy="41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understand and identify each young persons needs and situatio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ensure the young person understands why they are in the project and the benefits of being in the projec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work with the young person on how to meet those needs in a positive and pro active way;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encourage and facilitate education/training achievements and to enhance the employability of the young people in the Garda Youth Diversion Pro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 with Gardai, local agencies and community groups in an effort to address youth offending in th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pic>
        <p:nvPicPr>
          <p:cNvPr id="285" name="Content Placeholder 3" descr=""/>
          <p:cNvPicPr/>
          <p:nvPr/>
        </p:nvPicPr>
        <p:blipFill>
          <a:blip r:embed="rId6"/>
          <a:stretch/>
        </p:blipFill>
        <p:spPr>
          <a:xfrm>
            <a:off x="468360" y="260280"/>
            <a:ext cx="7564320" cy="4461120"/>
          </a:xfrm>
          <a:prstGeom prst="rect">
            <a:avLst/>
          </a:prstGeom>
          <a:ln w="0">
            <a:noFill/>
          </a:ln>
        </p:spPr>
      </p:pic>
      <p:sp>
        <p:nvSpPr>
          <p:cNvPr id="286" name="TextBox 6"/>
          <p:cNvSpPr/>
          <p:nvPr/>
        </p:nvSpPr>
        <p:spPr>
          <a:xfrm>
            <a:off x="179280" y="4724280"/>
            <a:ext cx="878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pply a structured approach to working with the Young People, their families, education and their environment (friends and influ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293" name="Title 1"/>
          <p:cNvSpPr/>
          <p:nvPr/>
        </p:nvSpPr>
        <p:spPr>
          <a:xfrm>
            <a:off x="498600" y="484200"/>
            <a:ext cx="755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Development of Pro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Content Placeholder 2"/>
          <p:cNvSpPr/>
          <p:nvPr/>
        </p:nvSpPr>
        <p:spPr>
          <a:xfrm>
            <a:off x="324000" y="1268280"/>
            <a:ext cx="817704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roject opened in May 2007 with one worker empl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n September 2008, second worker employed through the European Social F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o date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66 primary clients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have availed of services offered by Treo Nua and approximately </a:t>
            </a:r>
            <a:r>
              <a:rPr b="1" lang="en-IE" sz="2400" spc="-1" strike="noStrike">
                <a:solidFill>
                  <a:srgbClr val="000066"/>
                </a:solidFill>
                <a:latin typeface="Tahoma"/>
              </a:rPr>
              <a:t>200 secondary</a:t>
            </a:r>
            <a:r>
              <a:rPr b="0" lang="en-IE" sz="2400" spc="-1" strike="noStrike">
                <a:solidFill>
                  <a:srgbClr val="a3a101"/>
                </a:solidFill>
                <a:latin typeface="Tahom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4440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Huge implications for the Tuam GY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4440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ncrease in the range and quality for services available for the young people of Tu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01" name="Title 2"/>
          <p:cNvSpPr/>
          <p:nvPr/>
        </p:nvSpPr>
        <p:spPr>
          <a:xfrm>
            <a:off x="498600" y="484200"/>
            <a:ext cx="82501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ESF  - Impact on Treo Nua</a:t>
            </a:r>
            <a:br>
              <a:rPr sz="4400"/>
            </a:b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Before...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Content Placeholder 1"/>
          <p:cNvSpPr/>
          <p:nvPr/>
        </p:nvSpPr>
        <p:spPr>
          <a:xfrm>
            <a:off x="498600" y="1981080"/>
            <a:ext cx="83214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One worker, under resourced and over stretch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Waiting lists in projec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Limited service provi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Intensive care plans limi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Home visits limi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Development of project curtailed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Largely reactive work, limited preventative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498600" y="484200"/>
            <a:ext cx="81057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ESF – Impact on Treo Nua</a:t>
            </a:r>
            <a:br>
              <a:rPr sz="4400"/>
            </a:b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After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dditional staff me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ncreased number of 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Varied service delivery – prevention program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xpansion of project; greater emphasis on education and employment opportunities of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ncreased networking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llowed for a more intensive and holistic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ersonal Development funding; new innovative program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17" name="Title 2"/>
          <p:cNvSpPr/>
          <p:nvPr/>
        </p:nvSpPr>
        <p:spPr>
          <a:xfrm>
            <a:off x="0" y="0"/>
            <a:ext cx="9144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66"/>
                </a:solidFill>
                <a:latin typeface="Tahoma"/>
              </a:rPr>
              <a:t>Case Study  - ESF Programme</a:t>
            </a:r>
            <a:br>
              <a:rPr sz="4000"/>
            </a:br>
            <a:r>
              <a:rPr b="1" lang="en-IE" sz="3300" spc="-1" strike="noStrike">
                <a:solidFill>
                  <a:srgbClr val="000066"/>
                </a:solidFill>
                <a:latin typeface="Tahoma"/>
              </a:rPr>
              <a:t>Back to Education Initiative and Jobs Club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Content Placeholder 1"/>
          <p:cNvSpPr/>
          <p:nvPr/>
        </p:nvSpPr>
        <p:spPr>
          <a:xfrm>
            <a:off x="324000" y="1341360"/>
            <a:ext cx="75564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92560" indent="-488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taff in project observed a number of young males who were not engaged in any form of mainstream education and/or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2560" indent="-488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2560" indent="-488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fforts were made to support these young people back into school but they were un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2560" indent="-488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2560" indent="-488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taff identified that an ‘in between’ service was necessary that would meet the needs of the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25" name="Title 2"/>
          <p:cNvSpPr/>
          <p:nvPr/>
        </p:nvSpPr>
        <p:spPr>
          <a:xfrm>
            <a:off x="0" y="260280"/>
            <a:ext cx="9144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400" spc="-1" strike="noStrike">
                <a:solidFill>
                  <a:srgbClr val="000066"/>
                </a:solidFill>
                <a:latin typeface="Tahoma"/>
              </a:rPr>
              <a:t>What were the needs of the young people?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Content Placeholder 1"/>
          <p:cNvSpPr/>
          <p:nvPr/>
        </p:nvSpPr>
        <p:spPr>
          <a:xfrm>
            <a:off x="395280" y="1197000"/>
            <a:ext cx="75564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ow literacy and numeracy ski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oor record of attend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erception of education as a hind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ack of support and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ow self belief and self wor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No access to education or training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33" name="Title 2"/>
          <p:cNvSpPr/>
          <p:nvPr/>
        </p:nvSpPr>
        <p:spPr>
          <a:xfrm>
            <a:off x="468360" y="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BTEI/Jobs Club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Content Placeholder 1"/>
          <p:cNvSpPr/>
          <p:nvPr/>
        </p:nvSpPr>
        <p:spPr>
          <a:xfrm>
            <a:off x="324000" y="836640"/>
            <a:ext cx="82803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he overall aim of the BTEI is for the young people to re-enter mainstream education or training and eventually enter the workforce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A predominant theme throughout the course will be the importance and value of employability and gaining employmen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he project worker employed under ESF, will run a ‘Jobs Club’ with the intention of the young people working towards a FETAC Level 3 Work Orientation Qualific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14560" indent="-214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41" name="Title 2"/>
          <p:cNvSpPr/>
          <p:nvPr/>
        </p:nvSpPr>
        <p:spPr>
          <a:xfrm>
            <a:off x="468360" y="18900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66"/>
                </a:solidFill>
                <a:latin typeface="Tahoma"/>
              </a:rPr>
              <a:t>Preparation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Content Placeholder 1"/>
          <p:cNvSpPr/>
          <p:nvPr/>
        </p:nvSpPr>
        <p:spPr>
          <a:xfrm>
            <a:off x="395280" y="1052640"/>
            <a:ext cx="825012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Meetings were arranged with local schools and training centres to identify potential clients and sharing of resour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Staff designed programme which focused on training and employa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Contact was made with the County Galway Educational Committee – agreed to provide 9 tuition hours a wee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62 local businesses were written to and invited to be partners in the program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YJS continu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ommunity Programmes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Divers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Programme – statutory under Children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- Garda Youth Diversion Projec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Young Persons Probation – community sa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Detention – last res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49" name="Title 2"/>
          <p:cNvSpPr/>
          <p:nvPr/>
        </p:nvSpPr>
        <p:spPr>
          <a:xfrm>
            <a:off x="179280" y="260280"/>
            <a:ext cx="8686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66"/>
                </a:solidFill>
                <a:latin typeface="Tahoma"/>
              </a:rPr>
              <a:t>Case Study  - ESF Programme Sub Measure 1</a:t>
            </a:r>
            <a:br>
              <a:rPr sz="2800"/>
            </a:br>
            <a:r>
              <a:rPr b="1" i="1" lang="en-IE" sz="2800" spc="-1" strike="noStrike">
                <a:solidFill>
                  <a:srgbClr val="000066"/>
                </a:solidFill>
                <a:latin typeface="Tahoma"/>
              </a:rPr>
              <a:t>Back to Education Initiative and Jobs Cl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Content Placeholder 1"/>
          <p:cNvSpPr/>
          <p:nvPr/>
        </p:nvSpPr>
        <p:spPr>
          <a:xfrm>
            <a:off x="0" y="1413000"/>
            <a:ext cx="889308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Tahoma"/>
              </a:rPr>
              <a:t>Partnership programme with Treo Nua and County Galway Vocational Educational Committe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Tahoma"/>
              </a:rPr>
              <a:t>Targeted young males who were not participating in any form of education, training or employment in Tuam tow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Tahoma"/>
              </a:rPr>
              <a:t>Course acted as a ‘stop gap’ to assist clients to identify goals and support re-entry to mainstream education/trainin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182880" indent="-1828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Tahoma"/>
              </a:rPr>
              <a:t>Education Welfare Officer, Department of Education - Gatekeep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57" name="Title 2"/>
          <p:cNvSpPr/>
          <p:nvPr/>
        </p:nvSpPr>
        <p:spPr>
          <a:xfrm>
            <a:off x="468360" y="18900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Back To Education Initi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Content Placeholder 3" descr=""/>
          <p:cNvPicPr/>
          <p:nvPr/>
        </p:nvPicPr>
        <p:blipFill>
          <a:blip r:embed="rId6"/>
          <a:stretch/>
        </p:blipFill>
        <p:spPr>
          <a:xfrm>
            <a:off x="395280" y="981000"/>
            <a:ext cx="826776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65" name="Title 2"/>
          <p:cNvSpPr/>
          <p:nvPr/>
        </p:nvSpPr>
        <p:spPr>
          <a:xfrm>
            <a:off x="468360" y="189000"/>
            <a:ext cx="75564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Progress to dat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Content Placeholder 1"/>
          <p:cNvSpPr/>
          <p:nvPr/>
        </p:nvSpPr>
        <p:spPr>
          <a:xfrm>
            <a:off x="468360" y="907920"/>
            <a:ext cx="82803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Started with 7 participants  - ESF Personal Develop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38840" indent="-219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ll clients within four months were placed in a mainstream education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8840" indent="-219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ach participant exceeded their own expec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8840" indent="-2192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IE" sz="26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 Programme – 5 participants – Core Funding/ESF Work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38840" indent="-219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qually successful; 4 young men in local training cent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8840" indent="-219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1 young man in full time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0"/>
          <p:cNvSpPr/>
          <p:nvPr/>
        </p:nvSpPr>
        <p:spPr>
          <a:xfrm>
            <a:off x="2268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73" name="Title 2"/>
          <p:cNvSpPr/>
          <p:nvPr/>
        </p:nvSpPr>
        <p:spPr>
          <a:xfrm>
            <a:off x="179280" y="0"/>
            <a:ext cx="75567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Course 1 &amp;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324000" y="620640"/>
          <a:ext cx="8496000" cy="5037120"/>
        </p:xfrm>
        <a:graphic>
          <a:graphicData uri="http://schemas.openxmlformats.org/drawingml/2006/table">
            <a:tbl>
              <a:tblPr/>
              <a:tblGrid>
                <a:gridCol w="1784160"/>
                <a:gridCol w="671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rticip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urrent Sit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Tuam Community Training Cen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Tuam Community Training Cen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o Galway VEC – Leaving Certificate Pro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o Galway VEC – Leaving Certificate Pro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ompleted Junior Certificate; starting in Probation Training Centre in June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Youthreach Tu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mainstream post primary sch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mployed full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Youthr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Tuam Community Training Cen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Youthr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udent in Youthr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81" name="Title 2"/>
          <p:cNvSpPr/>
          <p:nvPr/>
        </p:nvSpPr>
        <p:spPr>
          <a:xfrm>
            <a:off x="468360" y="189000"/>
            <a:ext cx="755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66"/>
                </a:solidFill>
                <a:latin typeface="Tahoma"/>
              </a:rPr>
              <a:t>My Story as T41 and/or No.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Content Placeholder 6"/>
          <p:cNvSpPr/>
          <p:nvPr/>
        </p:nvSpPr>
        <p:spPr>
          <a:xfrm>
            <a:off x="468360" y="981000"/>
            <a:ext cx="365760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194040" indent="-19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wo years ago I was kicked out of school.  I was getting in alot of trouble for fighting and being cheeky with the teacher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 was getting in trouble with the Gardaí in town for drinking and messing and that’s how I got into the pro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6"/>
          <a:stretch/>
        </p:blipFill>
        <p:spPr>
          <a:xfrm>
            <a:off x="4643280" y="1714680"/>
            <a:ext cx="41706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90" name="Content Placeholder 5"/>
          <p:cNvSpPr/>
          <p:nvPr/>
        </p:nvSpPr>
        <p:spPr>
          <a:xfrm>
            <a:off x="395280" y="1413000"/>
            <a:ext cx="365760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 get wound up really easily and loose my temper, I’m getting better but it’s hard and people annoy me really easi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6"/>
          <a:stretch/>
        </p:blipFill>
        <p:spPr>
          <a:xfrm>
            <a:off x="5076720" y="1125360"/>
            <a:ext cx="296388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398" name="Content Placeholder 5"/>
          <p:cNvSpPr/>
          <p:nvPr/>
        </p:nvSpPr>
        <p:spPr>
          <a:xfrm>
            <a:off x="468360" y="476280"/>
            <a:ext cx="410364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187200" indent="-18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I was at home and really bored.  I had alot of time to think about getting kicked out of school, and I regretted it but I didn’t want go back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I didn’t know what I wanted but I was getting more bored and pissed off with everyone and everything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6"/>
          <a:stretch/>
        </p:blipFill>
        <p:spPr>
          <a:xfrm>
            <a:off x="5292720" y="1341360"/>
            <a:ext cx="3035160" cy="31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06" name="Content Placeholder 10"/>
          <p:cNvSpPr/>
          <p:nvPr/>
        </p:nvSpPr>
        <p:spPr>
          <a:xfrm>
            <a:off x="4643280" y="1052640"/>
            <a:ext cx="4042080" cy="39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 joined the BTE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BTEI was ok.  It was hard to come in and get up in the mornings, Laura and Mairéad used to collect me most day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6"/>
          <a:stretch/>
        </p:blipFill>
        <p:spPr>
          <a:xfrm>
            <a:off x="714240" y="1967040"/>
            <a:ext cx="36417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5"/>
          <p:cNvSpPr/>
          <p:nvPr/>
        </p:nvSpPr>
        <p:spPr>
          <a:xfrm>
            <a:off x="3419640" y="260280"/>
            <a:ext cx="532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03400" indent="-203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Did some good stuff, but the best part was my work placement.  I didn’t care what I did – I just wanted to get a job and money because I’m too young for the dole.  I did my placement in a shoe shop.  Mairéad helped me get ready for it and came in with me on my first day and met me a few times during the week to see how it was going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6"/>
          <a:stretch/>
        </p:blipFill>
        <p:spPr>
          <a:xfrm>
            <a:off x="826920" y="1773360"/>
            <a:ext cx="1968840" cy="22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22" name="Content Placeholder 5"/>
          <p:cNvSpPr/>
          <p:nvPr/>
        </p:nvSpPr>
        <p:spPr>
          <a:xfrm>
            <a:off x="4427640" y="620640"/>
            <a:ext cx="42480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It was really boring – I did stock taking, serving customers and cleaning.  After a few days and I was realising that I would have the worst jobs for the rest of my life if I didn’t go back to school or do some training or something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6"/>
          <a:stretch/>
        </p:blipFill>
        <p:spPr>
          <a:xfrm>
            <a:off x="714240" y="1593720"/>
            <a:ext cx="3297240" cy="34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Garda Youth Diversion Projects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184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ommunity based, multi-agency crime prevention initiati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ovide suitable activities in order to divert young people from criminal/anti – social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100 Projects in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31 – BM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69 – S&amp;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Voluntary basis of attend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9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30" name="Content Placeholder 4"/>
          <p:cNvSpPr/>
          <p:nvPr/>
        </p:nvSpPr>
        <p:spPr>
          <a:xfrm>
            <a:off x="3780000" y="549360"/>
            <a:ext cx="511308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hen this course came up, it was a Leaving Cert course for early school leavers but for adul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Me and Kev went for i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he woman was strict and was making a big deal that we were allowed to do i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nyway after it all, we got a place and here we are.  Still have to meet Mairéad every week and we still do trips if we’re good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6"/>
          <a:stretch/>
        </p:blipFill>
        <p:spPr>
          <a:xfrm>
            <a:off x="250920" y="1197000"/>
            <a:ext cx="349236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7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38" name="Content Placeholder 5"/>
          <p:cNvSpPr/>
          <p:nvPr/>
        </p:nvSpPr>
        <p:spPr>
          <a:xfrm>
            <a:off x="3924360" y="260280"/>
            <a:ext cx="497196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500" spc="-1" strike="noStrike">
                <a:solidFill>
                  <a:srgbClr val="000000"/>
                </a:solidFill>
                <a:latin typeface="Tahoma"/>
              </a:rPr>
              <a:t>Its good now – get on way better with my mam because she doesn’t give out as much.  I feel better now, because I know with my leaving cert I have choices – before this I didn’t.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500" spc="-1" strike="noStrike">
                <a:solidFill>
                  <a:srgbClr val="000000"/>
                </a:solidFill>
                <a:latin typeface="Tahoma"/>
              </a:rPr>
              <a:t>I think I want to be a sports journalist, so I applied for a few courses.  Applied for sports ones too because I’m good at that stuff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6"/>
          <a:stretch/>
        </p:blipFill>
        <p:spPr>
          <a:xfrm>
            <a:off x="250920" y="1773360"/>
            <a:ext cx="356688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5"/>
          <a:stretch/>
        </p:blipFill>
        <p:spPr>
          <a:xfrm>
            <a:off x="8015400" y="6064200"/>
            <a:ext cx="1128600" cy="793800"/>
          </a:xfrm>
          <a:prstGeom prst="rect">
            <a:avLst/>
          </a:prstGeom>
          <a:ln w="0">
            <a:noFill/>
          </a:ln>
        </p:spPr>
      </p:pic>
      <p:sp>
        <p:nvSpPr>
          <p:cNvPr id="446" name="Content Placeholder 4"/>
          <p:cNvSpPr/>
          <p:nvPr/>
        </p:nvSpPr>
        <p:spPr>
          <a:xfrm>
            <a:off x="4716360" y="765000"/>
            <a:ext cx="4040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course helped me catch up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’m where I should be which is good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t’s a good chance and others should do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6"/>
          <a:stretch/>
        </p:blipFill>
        <p:spPr>
          <a:xfrm>
            <a:off x="755640" y="1463760"/>
            <a:ext cx="3095640" cy="30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anagement Mode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0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114560" y="1490760"/>
            <a:ext cx="3817800" cy="85860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Irish Youth Justice Service and An Garda Síochá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2747880"/>
            <a:ext cx="3543480" cy="68580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Youth Organisation emplo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05360"/>
            <a:ext cx="3543480" cy="68580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Garda Youth Diversion Project committ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4869000"/>
            <a:ext cx="3543480" cy="685800"/>
          </a:xfrm>
          <a:prstGeom prst="roundRect">
            <a:avLst>
              <a:gd name="adj" fmla="val 16667"/>
            </a:avLst>
          </a:prstGeom>
          <a:solidFill>
            <a:srgbClr val="99ccff">
              <a:alpha val="8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Local An Garda Síochána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716200" y="2176560"/>
            <a:ext cx="0" cy="571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716200" y="3433680"/>
            <a:ext cx="0" cy="57168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4581360"/>
            <a:ext cx="289080" cy="2876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3399"/>
                </a:solidFill>
                <a:latin typeface="Tahoma"/>
              </a:rPr>
              <a:t>Locations of Garda Youth Diversion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95640" y="620640"/>
            <a:ext cx="3952800" cy="504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852640"/>
            <a:ext cx="23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vestment Ex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rda projects €13million 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2421000"/>
            <a:ext cx="255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12120"/>
                </a:solidFill>
                <a:uFillTx/>
                <a:latin typeface="Tahoma"/>
              </a:rPr>
              <a:t>Multiple pro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Dublin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Cork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11 Limerick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212120"/>
                </a:solidFill>
                <a:latin typeface="Tahoma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89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4" descr="IYJS_Logo_Small_Title"/>
          <p:cNvPicPr/>
          <p:nvPr/>
        </p:nvPicPr>
        <p:blipFill>
          <a:blip r:embed="rId3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ESF logo - Harp"/>
          <p:cNvPicPr/>
          <p:nvPr/>
        </p:nvPicPr>
        <p:blipFill>
          <a:blip r:embed="rId4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sf-logo Flag"/>
          <p:cNvPicPr/>
          <p:nvPr/>
        </p:nvPicPr>
        <p:blipFill>
          <a:blip r:embed="rId5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Numbers of young people enga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1628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60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IYJS_Logo_Small_Title"/>
          <p:cNvPicPr/>
          <p:nvPr/>
        </p:nvPicPr>
        <p:blipFill>
          <a:blip r:embed="rId1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ESF logo - Harp"/>
          <p:cNvPicPr/>
          <p:nvPr/>
        </p:nvPicPr>
        <p:blipFill>
          <a:blip r:embed="rId2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sf-logo Flag"/>
          <p:cNvPicPr/>
          <p:nvPr/>
        </p:nvPicPr>
        <p:blipFill>
          <a:blip r:embed="rId3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22200" y="1592280"/>
            <a:ext cx="8306640" cy="3921840"/>
            <a:chOff x="322200" y="1592280"/>
            <a:chExt cx="8306640" cy="3921840"/>
          </a:xfrm>
        </p:grpSpPr>
        <p:sp>
          <p:nvSpPr>
            <p:cNvPr id="113" name=""/>
            <p:cNvSpPr/>
            <p:nvPr/>
          </p:nvSpPr>
          <p:spPr>
            <a:xfrm>
              <a:off x="988920" y="1592280"/>
              <a:ext cx="7539120" cy="3578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88920" y="4813200"/>
              <a:ext cx="753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88920" y="4456080"/>
              <a:ext cx="753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88920" y="4097160"/>
              <a:ext cx="753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8920" y="3740040"/>
              <a:ext cx="753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88920" y="338148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88920" y="302436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88920" y="266544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88920" y="230832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88920" y="195120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88920" y="1592280"/>
              <a:ext cx="753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88920" y="1592280"/>
              <a:ext cx="7539120" cy="3578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6480" y="4456080"/>
              <a:ext cx="253800" cy="71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05040" y="3201840"/>
              <a:ext cx="253800" cy="1968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33600" y="2308320"/>
              <a:ext cx="252360" cy="2862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60720" y="2128680"/>
              <a:ext cx="254160" cy="30416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9280" y="2665440"/>
              <a:ext cx="254160" cy="2504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17840" y="3024360"/>
              <a:ext cx="254160" cy="2145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46760" y="4456080"/>
              <a:ext cx="252360" cy="71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73880" y="4456080"/>
              <a:ext cx="253800" cy="71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02440" y="4633920"/>
              <a:ext cx="253800" cy="536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31000" y="4992840"/>
              <a:ext cx="254160" cy="177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59560" y="4992840"/>
              <a:ext cx="252360" cy="177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6680" y="4992840"/>
              <a:ext cx="254160" cy="177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88920" y="5170320"/>
              <a:ext cx="753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988920" y="51703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61784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24640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7352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50208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130640" y="51703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759200" y="51703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386320" y="51703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014880" y="51703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64380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27236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89948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528040" y="51703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3200" y="2077920"/>
              <a:ext cx="6910560" cy="2982960"/>
            </a:xfrm>
            <a:custGeom>
              <a:avLst/>
              <a:gdLst/>
              <a:ahLst/>
              <a:rect l="l" t="t" r="r" b="b"/>
              <a:pathLst>
                <a:path w="4617" h="2673">
                  <a:moveTo>
                    <a:pt x="0" y="2123"/>
                  </a:moveTo>
                  <a:lnTo>
                    <a:pt x="4" y="2115"/>
                  </a:lnTo>
                  <a:lnTo>
                    <a:pt x="8" y="2107"/>
                  </a:lnTo>
                  <a:lnTo>
                    <a:pt x="11" y="2099"/>
                  </a:lnTo>
                  <a:lnTo>
                    <a:pt x="15" y="2092"/>
                  </a:lnTo>
                  <a:lnTo>
                    <a:pt x="19" y="2084"/>
                  </a:lnTo>
                  <a:lnTo>
                    <a:pt x="23" y="2076"/>
                  </a:lnTo>
                  <a:lnTo>
                    <a:pt x="27" y="2067"/>
                  </a:lnTo>
                  <a:lnTo>
                    <a:pt x="30" y="2059"/>
                  </a:lnTo>
                  <a:lnTo>
                    <a:pt x="34" y="2051"/>
                  </a:lnTo>
                  <a:lnTo>
                    <a:pt x="38" y="2043"/>
                  </a:lnTo>
                  <a:lnTo>
                    <a:pt x="42" y="2034"/>
                  </a:lnTo>
                  <a:lnTo>
                    <a:pt x="46" y="2026"/>
                  </a:lnTo>
                  <a:lnTo>
                    <a:pt x="50" y="2017"/>
                  </a:lnTo>
                  <a:lnTo>
                    <a:pt x="53" y="2008"/>
                  </a:lnTo>
                  <a:lnTo>
                    <a:pt x="57" y="2000"/>
                  </a:lnTo>
                  <a:lnTo>
                    <a:pt x="61" y="1991"/>
                  </a:lnTo>
                  <a:lnTo>
                    <a:pt x="65" y="1982"/>
                  </a:lnTo>
                  <a:lnTo>
                    <a:pt x="69" y="1973"/>
                  </a:lnTo>
                  <a:lnTo>
                    <a:pt x="73" y="1964"/>
                  </a:lnTo>
                  <a:lnTo>
                    <a:pt x="76" y="1955"/>
                  </a:lnTo>
                  <a:lnTo>
                    <a:pt x="80" y="1946"/>
                  </a:lnTo>
                  <a:lnTo>
                    <a:pt x="84" y="1937"/>
                  </a:lnTo>
                  <a:lnTo>
                    <a:pt x="88" y="1928"/>
                  </a:lnTo>
                  <a:lnTo>
                    <a:pt x="92" y="1918"/>
                  </a:lnTo>
                  <a:lnTo>
                    <a:pt x="96" y="1909"/>
                  </a:lnTo>
                  <a:lnTo>
                    <a:pt x="99" y="1900"/>
                  </a:lnTo>
                  <a:lnTo>
                    <a:pt x="103" y="1890"/>
                  </a:lnTo>
                  <a:lnTo>
                    <a:pt x="107" y="1881"/>
                  </a:lnTo>
                  <a:lnTo>
                    <a:pt x="111" y="1871"/>
                  </a:lnTo>
                  <a:lnTo>
                    <a:pt x="115" y="1862"/>
                  </a:lnTo>
                  <a:lnTo>
                    <a:pt x="118" y="1852"/>
                  </a:lnTo>
                  <a:lnTo>
                    <a:pt x="122" y="1842"/>
                  </a:lnTo>
                  <a:lnTo>
                    <a:pt x="126" y="1833"/>
                  </a:lnTo>
                  <a:lnTo>
                    <a:pt x="130" y="1823"/>
                  </a:lnTo>
                  <a:lnTo>
                    <a:pt x="134" y="1813"/>
                  </a:lnTo>
                  <a:lnTo>
                    <a:pt x="138" y="1803"/>
                  </a:lnTo>
                  <a:lnTo>
                    <a:pt x="141" y="1793"/>
                  </a:lnTo>
                  <a:lnTo>
                    <a:pt x="145" y="1784"/>
                  </a:lnTo>
                  <a:lnTo>
                    <a:pt x="149" y="1774"/>
                  </a:lnTo>
                  <a:lnTo>
                    <a:pt x="153" y="1764"/>
                  </a:lnTo>
                  <a:lnTo>
                    <a:pt x="157" y="1754"/>
                  </a:lnTo>
                  <a:lnTo>
                    <a:pt x="161" y="1744"/>
                  </a:lnTo>
                  <a:lnTo>
                    <a:pt x="164" y="1733"/>
                  </a:lnTo>
                  <a:lnTo>
                    <a:pt x="168" y="1723"/>
                  </a:lnTo>
                  <a:lnTo>
                    <a:pt x="172" y="1713"/>
                  </a:lnTo>
                  <a:lnTo>
                    <a:pt x="176" y="1703"/>
                  </a:lnTo>
                  <a:lnTo>
                    <a:pt x="180" y="1693"/>
                  </a:lnTo>
                  <a:lnTo>
                    <a:pt x="183" y="1682"/>
                  </a:lnTo>
                  <a:lnTo>
                    <a:pt x="187" y="1672"/>
                  </a:lnTo>
                  <a:lnTo>
                    <a:pt x="191" y="1662"/>
                  </a:lnTo>
                  <a:lnTo>
                    <a:pt x="195" y="1652"/>
                  </a:lnTo>
                  <a:lnTo>
                    <a:pt x="199" y="1641"/>
                  </a:lnTo>
                  <a:lnTo>
                    <a:pt x="203" y="1631"/>
                  </a:lnTo>
                  <a:lnTo>
                    <a:pt x="206" y="1621"/>
                  </a:lnTo>
                  <a:lnTo>
                    <a:pt x="210" y="1610"/>
                  </a:lnTo>
                  <a:lnTo>
                    <a:pt x="214" y="1600"/>
                  </a:lnTo>
                  <a:lnTo>
                    <a:pt x="218" y="1589"/>
                  </a:lnTo>
                  <a:lnTo>
                    <a:pt x="222" y="1579"/>
                  </a:lnTo>
                  <a:lnTo>
                    <a:pt x="226" y="1568"/>
                  </a:lnTo>
                  <a:lnTo>
                    <a:pt x="229" y="1558"/>
                  </a:lnTo>
                  <a:lnTo>
                    <a:pt x="233" y="1547"/>
                  </a:lnTo>
                  <a:lnTo>
                    <a:pt x="237" y="1537"/>
                  </a:lnTo>
                  <a:lnTo>
                    <a:pt x="241" y="1526"/>
                  </a:lnTo>
                  <a:lnTo>
                    <a:pt x="245" y="1516"/>
                  </a:lnTo>
                  <a:lnTo>
                    <a:pt x="249" y="1505"/>
                  </a:lnTo>
                  <a:lnTo>
                    <a:pt x="252" y="1495"/>
                  </a:lnTo>
                  <a:lnTo>
                    <a:pt x="256" y="1484"/>
                  </a:lnTo>
                  <a:lnTo>
                    <a:pt x="260" y="1474"/>
                  </a:lnTo>
                  <a:lnTo>
                    <a:pt x="264" y="1463"/>
                  </a:lnTo>
                  <a:lnTo>
                    <a:pt x="268" y="1452"/>
                  </a:lnTo>
                  <a:lnTo>
                    <a:pt x="271" y="1442"/>
                  </a:lnTo>
                  <a:lnTo>
                    <a:pt x="275" y="1431"/>
                  </a:lnTo>
                  <a:lnTo>
                    <a:pt x="279" y="1421"/>
                  </a:lnTo>
                  <a:lnTo>
                    <a:pt x="283" y="1410"/>
                  </a:lnTo>
                  <a:lnTo>
                    <a:pt x="287" y="1399"/>
                  </a:lnTo>
                  <a:lnTo>
                    <a:pt x="291" y="1389"/>
                  </a:lnTo>
                  <a:lnTo>
                    <a:pt x="294" y="1378"/>
                  </a:lnTo>
                  <a:lnTo>
                    <a:pt x="298" y="1368"/>
                  </a:lnTo>
                  <a:lnTo>
                    <a:pt x="302" y="1357"/>
                  </a:lnTo>
                  <a:lnTo>
                    <a:pt x="306" y="1346"/>
                  </a:lnTo>
                  <a:lnTo>
                    <a:pt x="310" y="1336"/>
                  </a:lnTo>
                  <a:lnTo>
                    <a:pt x="314" y="1325"/>
                  </a:lnTo>
                  <a:lnTo>
                    <a:pt x="317" y="1315"/>
                  </a:lnTo>
                  <a:lnTo>
                    <a:pt x="321" y="1304"/>
                  </a:lnTo>
                  <a:lnTo>
                    <a:pt x="325" y="1294"/>
                  </a:lnTo>
                  <a:lnTo>
                    <a:pt x="329" y="1283"/>
                  </a:lnTo>
                  <a:lnTo>
                    <a:pt x="333" y="1273"/>
                  </a:lnTo>
                  <a:lnTo>
                    <a:pt x="337" y="1262"/>
                  </a:lnTo>
                  <a:lnTo>
                    <a:pt x="340" y="1252"/>
                  </a:lnTo>
                  <a:lnTo>
                    <a:pt x="344" y="1241"/>
                  </a:lnTo>
                  <a:lnTo>
                    <a:pt x="348" y="1231"/>
                  </a:lnTo>
                  <a:lnTo>
                    <a:pt x="352" y="1220"/>
                  </a:lnTo>
                  <a:lnTo>
                    <a:pt x="356" y="1210"/>
                  </a:lnTo>
                  <a:lnTo>
                    <a:pt x="359" y="1199"/>
                  </a:lnTo>
                  <a:lnTo>
                    <a:pt x="363" y="1189"/>
                  </a:lnTo>
                  <a:lnTo>
                    <a:pt x="367" y="1178"/>
                  </a:lnTo>
                  <a:lnTo>
                    <a:pt x="371" y="1168"/>
                  </a:lnTo>
                  <a:lnTo>
                    <a:pt x="375" y="1158"/>
                  </a:lnTo>
                  <a:lnTo>
                    <a:pt x="379" y="1147"/>
                  </a:lnTo>
                  <a:lnTo>
                    <a:pt x="382" y="1137"/>
                  </a:lnTo>
                  <a:lnTo>
                    <a:pt x="386" y="1126"/>
                  </a:lnTo>
                  <a:lnTo>
                    <a:pt x="390" y="1116"/>
                  </a:lnTo>
                  <a:lnTo>
                    <a:pt x="394" y="1106"/>
                  </a:lnTo>
                  <a:lnTo>
                    <a:pt x="398" y="1096"/>
                  </a:lnTo>
                  <a:lnTo>
                    <a:pt x="402" y="1085"/>
                  </a:lnTo>
                  <a:lnTo>
                    <a:pt x="405" y="1075"/>
                  </a:lnTo>
                  <a:lnTo>
                    <a:pt x="409" y="1065"/>
                  </a:lnTo>
                  <a:lnTo>
                    <a:pt x="413" y="1055"/>
                  </a:lnTo>
                  <a:lnTo>
                    <a:pt x="417" y="1045"/>
                  </a:lnTo>
                  <a:lnTo>
                    <a:pt x="421" y="1035"/>
                  </a:lnTo>
                  <a:lnTo>
                    <a:pt x="424" y="1024"/>
                  </a:lnTo>
                  <a:lnTo>
                    <a:pt x="428" y="1014"/>
                  </a:lnTo>
                  <a:lnTo>
                    <a:pt x="432" y="1004"/>
                  </a:lnTo>
                  <a:lnTo>
                    <a:pt x="436" y="994"/>
                  </a:lnTo>
                  <a:lnTo>
                    <a:pt x="440" y="984"/>
                  </a:lnTo>
                  <a:lnTo>
                    <a:pt x="444" y="974"/>
                  </a:lnTo>
                  <a:lnTo>
                    <a:pt x="447" y="965"/>
                  </a:lnTo>
                  <a:lnTo>
                    <a:pt x="451" y="955"/>
                  </a:lnTo>
                  <a:lnTo>
                    <a:pt x="455" y="945"/>
                  </a:lnTo>
                  <a:lnTo>
                    <a:pt x="459" y="935"/>
                  </a:lnTo>
                  <a:lnTo>
                    <a:pt x="463" y="925"/>
                  </a:lnTo>
                  <a:lnTo>
                    <a:pt x="467" y="915"/>
                  </a:lnTo>
                  <a:lnTo>
                    <a:pt x="470" y="906"/>
                  </a:lnTo>
                  <a:lnTo>
                    <a:pt x="474" y="896"/>
                  </a:lnTo>
                  <a:lnTo>
                    <a:pt x="478" y="886"/>
                  </a:lnTo>
                  <a:lnTo>
                    <a:pt x="482" y="877"/>
                  </a:lnTo>
                  <a:lnTo>
                    <a:pt x="486" y="867"/>
                  </a:lnTo>
                  <a:lnTo>
                    <a:pt x="490" y="858"/>
                  </a:lnTo>
                  <a:lnTo>
                    <a:pt x="493" y="848"/>
                  </a:lnTo>
                  <a:lnTo>
                    <a:pt x="497" y="839"/>
                  </a:lnTo>
                  <a:lnTo>
                    <a:pt x="501" y="829"/>
                  </a:lnTo>
                  <a:lnTo>
                    <a:pt x="505" y="820"/>
                  </a:lnTo>
                  <a:lnTo>
                    <a:pt x="509" y="810"/>
                  </a:lnTo>
                  <a:lnTo>
                    <a:pt x="512" y="801"/>
                  </a:lnTo>
                  <a:lnTo>
                    <a:pt x="516" y="792"/>
                  </a:lnTo>
                  <a:lnTo>
                    <a:pt x="520" y="783"/>
                  </a:lnTo>
                  <a:lnTo>
                    <a:pt x="524" y="773"/>
                  </a:lnTo>
                  <a:lnTo>
                    <a:pt x="528" y="764"/>
                  </a:lnTo>
                  <a:lnTo>
                    <a:pt x="532" y="755"/>
                  </a:lnTo>
                  <a:lnTo>
                    <a:pt x="535" y="746"/>
                  </a:lnTo>
                  <a:lnTo>
                    <a:pt x="539" y="737"/>
                  </a:lnTo>
                  <a:lnTo>
                    <a:pt x="543" y="728"/>
                  </a:lnTo>
                  <a:lnTo>
                    <a:pt x="547" y="719"/>
                  </a:lnTo>
                  <a:lnTo>
                    <a:pt x="551" y="710"/>
                  </a:lnTo>
                  <a:lnTo>
                    <a:pt x="555" y="701"/>
                  </a:lnTo>
                  <a:lnTo>
                    <a:pt x="558" y="692"/>
                  </a:lnTo>
                  <a:lnTo>
                    <a:pt x="562" y="684"/>
                  </a:lnTo>
                  <a:lnTo>
                    <a:pt x="566" y="675"/>
                  </a:lnTo>
                  <a:lnTo>
                    <a:pt x="570" y="666"/>
                  </a:lnTo>
                  <a:lnTo>
                    <a:pt x="574" y="658"/>
                  </a:lnTo>
                  <a:lnTo>
                    <a:pt x="578" y="649"/>
                  </a:lnTo>
                  <a:lnTo>
                    <a:pt x="581" y="640"/>
                  </a:lnTo>
                  <a:lnTo>
                    <a:pt x="585" y="632"/>
                  </a:lnTo>
                  <a:lnTo>
                    <a:pt x="589" y="623"/>
                  </a:lnTo>
                  <a:lnTo>
                    <a:pt x="593" y="615"/>
                  </a:lnTo>
                  <a:lnTo>
                    <a:pt x="597" y="607"/>
                  </a:lnTo>
                  <a:lnTo>
                    <a:pt x="600" y="598"/>
                  </a:lnTo>
                  <a:lnTo>
                    <a:pt x="604" y="590"/>
                  </a:lnTo>
                  <a:lnTo>
                    <a:pt x="608" y="582"/>
                  </a:lnTo>
                  <a:lnTo>
                    <a:pt x="612" y="574"/>
                  </a:lnTo>
                  <a:lnTo>
                    <a:pt x="616" y="566"/>
                  </a:lnTo>
                  <a:lnTo>
                    <a:pt x="620" y="558"/>
                  </a:lnTo>
                  <a:lnTo>
                    <a:pt x="623" y="550"/>
                  </a:lnTo>
                  <a:lnTo>
                    <a:pt x="627" y="542"/>
                  </a:lnTo>
                  <a:lnTo>
                    <a:pt x="631" y="534"/>
                  </a:lnTo>
                  <a:lnTo>
                    <a:pt x="635" y="526"/>
                  </a:lnTo>
                  <a:lnTo>
                    <a:pt x="639" y="518"/>
                  </a:lnTo>
                  <a:lnTo>
                    <a:pt x="643" y="510"/>
                  </a:lnTo>
                  <a:lnTo>
                    <a:pt x="646" y="503"/>
                  </a:lnTo>
                  <a:lnTo>
                    <a:pt x="650" y="495"/>
                  </a:lnTo>
                  <a:lnTo>
                    <a:pt x="654" y="487"/>
                  </a:lnTo>
                  <a:lnTo>
                    <a:pt x="658" y="480"/>
                  </a:lnTo>
                  <a:lnTo>
                    <a:pt x="662" y="472"/>
                  </a:lnTo>
                  <a:lnTo>
                    <a:pt x="665" y="465"/>
                  </a:lnTo>
                  <a:lnTo>
                    <a:pt x="669" y="457"/>
                  </a:lnTo>
                  <a:lnTo>
                    <a:pt x="673" y="450"/>
                  </a:lnTo>
                  <a:lnTo>
                    <a:pt x="677" y="443"/>
                  </a:lnTo>
                  <a:lnTo>
                    <a:pt x="681" y="436"/>
                  </a:lnTo>
                  <a:lnTo>
                    <a:pt x="685" y="428"/>
                  </a:lnTo>
                  <a:lnTo>
                    <a:pt x="688" y="421"/>
                  </a:lnTo>
                  <a:lnTo>
                    <a:pt x="692" y="414"/>
                  </a:lnTo>
                  <a:lnTo>
                    <a:pt x="696" y="407"/>
                  </a:lnTo>
                  <a:lnTo>
                    <a:pt x="700" y="400"/>
                  </a:lnTo>
                  <a:lnTo>
                    <a:pt x="704" y="393"/>
                  </a:lnTo>
                  <a:lnTo>
                    <a:pt x="708" y="387"/>
                  </a:lnTo>
                  <a:lnTo>
                    <a:pt x="711" y="380"/>
                  </a:lnTo>
                  <a:lnTo>
                    <a:pt x="715" y="373"/>
                  </a:lnTo>
                  <a:lnTo>
                    <a:pt x="719" y="366"/>
                  </a:lnTo>
                  <a:lnTo>
                    <a:pt x="723" y="360"/>
                  </a:lnTo>
                  <a:lnTo>
                    <a:pt x="727" y="353"/>
                  </a:lnTo>
                  <a:lnTo>
                    <a:pt x="731" y="347"/>
                  </a:lnTo>
                  <a:lnTo>
                    <a:pt x="734" y="340"/>
                  </a:lnTo>
                  <a:lnTo>
                    <a:pt x="738" y="334"/>
                  </a:lnTo>
                  <a:lnTo>
                    <a:pt x="742" y="328"/>
                  </a:lnTo>
                  <a:lnTo>
                    <a:pt x="746" y="321"/>
                  </a:lnTo>
                  <a:lnTo>
                    <a:pt x="750" y="315"/>
                  </a:lnTo>
                  <a:lnTo>
                    <a:pt x="753" y="309"/>
                  </a:lnTo>
                  <a:lnTo>
                    <a:pt x="757" y="303"/>
                  </a:lnTo>
                  <a:lnTo>
                    <a:pt x="761" y="297"/>
                  </a:lnTo>
                  <a:lnTo>
                    <a:pt x="765" y="291"/>
                  </a:lnTo>
                  <a:lnTo>
                    <a:pt x="769" y="285"/>
                  </a:lnTo>
                  <a:lnTo>
                    <a:pt x="773" y="279"/>
                  </a:lnTo>
                  <a:lnTo>
                    <a:pt x="776" y="274"/>
                  </a:lnTo>
                  <a:lnTo>
                    <a:pt x="780" y="268"/>
                  </a:lnTo>
                  <a:lnTo>
                    <a:pt x="784" y="262"/>
                  </a:lnTo>
                  <a:lnTo>
                    <a:pt x="788" y="256"/>
                  </a:lnTo>
                  <a:lnTo>
                    <a:pt x="792" y="251"/>
                  </a:lnTo>
                  <a:lnTo>
                    <a:pt x="796" y="245"/>
                  </a:lnTo>
                  <a:lnTo>
                    <a:pt x="799" y="240"/>
                  </a:lnTo>
                  <a:lnTo>
                    <a:pt x="803" y="235"/>
                  </a:lnTo>
                  <a:lnTo>
                    <a:pt x="807" y="229"/>
                  </a:lnTo>
                  <a:lnTo>
                    <a:pt x="811" y="224"/>
                  </a:lnTo>
                  <a:lnTo>
                    <a:pt x="815" y="219"/>
                  </a:lnTo>
                  <a:lnTo>
                    <a:pt x="819" y="214"/>
                  </a:lnTo>
                  <a:lnTo>
                    <a:pt x="822" y="209"/>
                  </a:lnTo>
                  <a:lnTo>
                    <a:pt x="826" y="204"/>
                  </a:lnTo>
                  <a:lnTo>
                    <a:pt x="830" y="199"/>
                  </a:lnTo>
                  <a:lnTo>
                    <a:pt x="834" y="194"/>
                  </a:lnTo>
                  <a:lnTo>
                    <a:pt x="838" y="189"/>
                  </a:lnTo>
                  <a:lnTo>
                    <a:pt x="841" y="184"/>
                  </a:lnTo>
                  <a:lnTo>
                    <a:pt x="845" y="180"/>
                  </a:lnTo>
                  <a:lnTo>
                    <a:pt x="849" y="175"/>
                  </a:lnTo>
                  <a:lnTo>
                    <a:pt x="853" y="170"/>
                  </a:lnTo>
                  <a:lnTo>
                    <a:pt x="857" y="166"/>
                  </a:lnTo>
                  <a:lnTo>
                    <a:pt x="861" y="161"/>
                  </a:lnTo>
                  <a:lnTo>
                    <a:pt x="864" y="157"/>
                  </a:lnTo>
                  <a:lnTo>
                    <a:pt x="868" y="153"/>
                  </a:lnTo>
                  <a:lnTo>
                    <a:pt x="872" y="148"/>
                  </a:lnTo>
                  <a:lnTo>
                    <a:pt x="876" y="144"/>
                  </a:lnTo>
                  <a:lnTo>
                    <a:pt x="880" y="140"/>
                  </a:lnTo>
                  <a:lnTo>
                    <a:pt x="884" y="136"/>
                  </a:lnTo>
                  <a:lnTo>
                    <a:pt x="887" y="132"/>
                  </a:lnTo>
                  <a:lnTo>
                    <a:pt x="891" y="128"/>
                  </a:lnTo>
                  <a:lnTo>
                    <a:pt x="895" y="124"/>
                  </a:lnTo>
                  <a:lnTo>
                    <a:pt x="899" y="120"/>
                  </a:lnTo>
                  <a:lnTo>
                    <a:pt x="903" y="116"/>
                  </a:lnTo>
                  <a:lnTo>
                    <a:pt x="906" y="113"/>
                  </a:lnTo>
                  <a:lnTo>
                    <a:pt x="910" y="109"/>
                  </a:lnTo>
                  <a:lnTo>
                    <a:pt x="914" y="105"/>
                  </a:lnTo>
                  <a:lnTo>
                    <a:pt x="918" y="102"/>
                  </a:lnTo>
                  <a:lnTo>
                    <a:pt x="922" y="98"/>
                  </a:lnTo>
                  <a:lnTo>
                    <a:pt x="926" y="95"/>
                  </a:lnTo>
                  <a:lnTo>
                    <a:pt x="929" y="92"/>
                  </a:lnTo>
                  <a:lnTo>
                    <a:pt x="933" y="88"/>
                  </a:lnTo>
                  <a:lnTo>
                    <a:pt x="937" y="85"/>
                  </a:lnTo>
                  <a:lnTo>
                    <a:pt x="941" y="82"/>
                  </a:lnTo>
                  <a:lnTo>
                    <a:pt x="945" y="79"/>
                  </a:lnTo>
                  <a:lnTo>
                    <a:pt x="949" y="76"/>
                  </a:lnTo>
                  <a:lnTo>
                    <a:pt x="952" y="73"/>
                  </a:lnTo>
                  <a:lnTo>
                    <a:pt x="956" y="70"/>
                  </a:lnTo>
                  <a:lnTo>
                    <a:pt x="960" y="67"/>
                  </a:lnTo>
                  <a:lnTo>
                    <a:pt x="964" y="64"/>
                  </a:lnTo>
                  <a:lnTo>
                    <a:pt x="968" y="62"/>
                  </a:lnTo>
                  <a:lnTo>
                    <a:pt x="972" y="59"/>
                  </a:lnTo>
                  <a:lnTo>
                    <a:pt x="975" y="56"/>
                  </a:lnTo>
                  <a:lnTo>
                    <a:pt x="979" y="54"/>
                  </a:lnTo>
                  <a:lnTo>
                    <a:pt x="983" y="51"/>
                  </a:lnTo>
                  <a:lnTo>
                    <a:pt x="987" y="49"/>
                  </a:lnTo>
                  <a:lnTo>
                    <a:pt x="991" y="46"/>
                  </a:lnTo>
                  <a:lnTo>
                    <a:pt x="994" y="44"/>
                  </a:lnTo>
                  <a:lnTo>
                    <a:pt x="998" y="42"/>
                  </a:lnTo>
                  <a:lnTo>
                    <a:pt x="1002" y="40"/>
                  </a:lnTo>
                  <a:lnTo>
                    <a:pt x="1006" y="37"/>
                  </a:lnTo>
                  <a:lnTo>
                    <a:pt x="1010" y="35"/>
                  </a:lnTo>
                  <a:lnTo>
                    <a:pt x="1014" y="33"/>
                  </a:lnTo>
                  <a:lnTo>
                    <a:pt x="1017" y="31"/>
                  </a:lnTo>
                  <a:lnTo>
                    <a:pt x="1021" y="30"/>
                  </a:lnTo>
                  <a:lnTo>
                    <a:pt x="1025" y="28"/>
                  </a:lnTo>
                  <a:lnTo>
                    <a:pt x="1029" y="26"/>
                  </a:lnTo>
                  <a:lnTo>
                    <a:pt x="1033" y="24"/>
                  </a:lnTo>
                  <a:lnTo>
                    <a:pt x="1037" y="23"/>
                  </a:lnTo>
                  <a:lnTo>
                    <a:pt x="1040" y="21"/>
                  </a:lnTo>
                  <a:lnTo>
                    <a:pt x="1044" y="20"/>
                  </a:lnTo>
                  <a:lnTo>
                    <a:pt x="1048" y="18"/>
                  </a:lnTo>
                  <a:lnTo>
                    <a:pt x="1052" y="17"/>
                  </a:lnTo>
                  <a:lnTo>
                    <a:pt x="1056" y="15"/>
                  </a:lnTo>
                  <a:lnTo>
                    <a:pt x="1060" y="14"/>
                  </a:lnTo>
                  <a:lnTo>
                    <a:pt x="1063" y="13"/>
                  </a:lnTo>
                  <a:lnTo>
                    <a:pt x="1067" y="12"/>
                  </a:lnTo>
                  <a:lnTo>
                    <a:pt x="1071" y="10"/>
                  </a:lnTo>
                  <a:lnTo>
                    <a:pt x="1075" y="9"/>
                  </a:lnTo>
                  <a:lnTo>
                    <a:pt x="1079" y="8"/>
                  </a:lnTo>
                  <a:lnTo>
                    <a:pt x="1082" y="8"/>
                  </a:lnTo>
                  <a:lnTo>
                    <a:pt x="1086" y="7"/>
                  </a:lnTo>
                  <a:lnTo>
                    <a:pt x="1090" y="6"/>
                  </a:lnTo>
                  <a:lnTo>
                    <a:pt x="1094" y="5"/>
                  </a:lnTo>
                  <a:lnTo>
                    <a:pt x="1098" y="4"/>
                  </a:lnTo>
                  <a:lnTo>
                    <a:pt x="1102" y="4"/>
                  </a:lnTo>
                  <a:lnTo>
                    <a:pt x="1105" y="3"/>
                  </a:lnTo>
                  <a:lnTo>
                    <a:pt x="1109" y="3"/>
                  </a:lnTo>
                  <a:lnTo>
                    <a:pt x="1113" y="2"/>
                  </a:lnTo>
                  <a:lnTo>
                    <a:pt x="1117" y="2"/>
                  </a:lnTo>
                  <a:lnTo>
                    <a:pt x="1121" y="1"/>
                  </a:lnTo>
                  <a:lnTo>
                    <a:pt x="1125" y="1"/>
                  </a:lnTo>
                  <a:lnTo>
                    <a:pt x="1128" y="1"/>
                  </a:lnTo>
                  <a:lnTo>
                    <a:pt x="1132" y="1"/>
                  </a:lnTo>
                  <a:lnTo>
                    <a:pt x="1136" y="1"/>
                  </a:lnTo>
                  <a:lnTo>
                    <a:pt x="1140" y="0"/>
                  </a:lnTo>
                  <a:lnTo>
                    <a:pt x="1144" y="0"/>
                  </a:lnTo>
                  <a:lnTo>
                    <a:pt x="1147" y="0"/>
                  </a:lnTo>
                  <a:lnTo>
                    <a:pt x="1151" y="1"/>
                  </a:lnTo>
                  <a:lnTo>
                    <a:pt x="1155" y="1"/>
                  </a:lnTo>
                  <a:lnTo>
                    <a:pt x="1159" y="1"/>
                  </a:lnTo>
                  <a:lnTo>
                    <a:pt x="1163" y="1"/>
                  </a:lnTo>
                  <a:lnTo>
                    <a:pt x="1167" y="2"/>
                  </a:lnTo>
                  <a:lnTo>
                    <a:pt x="1170" y="2"/>
                  </a:lnTo>
                  <a:lnTo>
                    <a:pt x="1174" y="2"/>
                  </a:lnTo>
                  <a:lnTo>
                    <a:pt x="1178" y="3"/>
                  </a:lnTo>
                  <a:lnTo>
                    <a:pt x="1182" y="3"/>
                  </a:lnTo>
                  <a:lnTo>
                    <a:pt x="1186" y="4"/>
                  </a:lnTo>
                  <a:lnTo>
                    <a:pt x="1190" y="5"/>
                  </a:lnTo>
                  <a:lnTo>
                    <a:pt x="1193" y="5"/>
                  </a:lnTo>
                  <a:lnTo>
                    <a:pt x="1197" y="6"/>
                  </a:lnTo>
                  <a:lnTo>
                    <a:pt x="1201" y="7"/>
                  </a:lnTo>
                  <a:lnTo>
                    <a:pt x="1205" y="8"/>
                  </a:lnTo>
                  <a:lnTo>
                    <a:pt x="1209" y="9"/>
                  </a:lnTo>
                  <a:lnTo>
                    <a:pt x="1213" y="10"/>
                  </a:lnTo>
                  <a:lnTo>
                    <a:pt x="1216" y="11"/>
                  </a:lnTo>
                  <a:lnTo>
                    <a:pt x="1220" y="12"/>
                  </a:lnTo>
                  <a:lnTo>
                    <a:pt x="1224" y="13"/>
                  </a:lnTo>
                  <a:lnTo>
                    <a:pt x="1228" y="14"/>
                  </a:lnTo>
                  <a:lnTo>
                    <a:pt x="1232" y="15"/>
                  </a:lnTo>
                  <a:lnTo>
                    <a:pt x="1235" y="17"/>
                  </a:lnTo>
                  <a:lnTo>
                    <a:pt x="1239" y="18"/>
                  </a:lnTo>
                  <a:lnTo>
                    <a:pt x="1243" y="19"/>
                  </a:lnTo>
                  <a:lnTo>
                    <a:pt x="1247" y="21"/>
                  </a:lnTo>
                  <a:lnTo>
                    <a:pt x="1251" y="22"/>
                  </a:lnTo>
                  <a:lnTo>
                    <a:pt x="1255" y="24"/>
                  </a:lnTo>
                  <a:lnTo>
                    <a:pt x="1258" y="25"/>
                  </a:lnTo>
                  <a:lnTo>
                    <a:pt x="1262" y="27"/>
                  </a:lnTo>
                  <a:lnTo>
                    <a:pt x="1266" y="29"/>
                  </a:lnTo>
                  <a:lnTo>
                    <a:pt x="1270" y="30"/>
                  </a:lnTo>
                  <a:lnTo>
                    <a:pt x="1274" y="32"/>
                  </a:lnTo>
                  <a:lnTo>
                    <a:pt x="1278" y="34"/>
                  </a:lnTo>
                  <a:lnTo>
                    <a:pt x="1281" y="36"/>
                  </a:lnTo>
                  <a:lnTo>
                    <a:pt x="1285" y="38"/>
                  </a:lnTo>
                  <a:lnTo>
                    <a:pt x="1289" y="40"/>
                  </a:lnTo>
                  <a:lnTo>
                    <a:pt x="1293" y="42"/>
                  </a:lnTo>
                  <a:lnTo>
                    <a:pt x="1297" y="44"/>
                  </a:lnTo>
                  <a:lnTo>
                    <a:pt x="1301" y="46"/>
                  </a:lnTo>
                  <a:lnTo>
                    <a:pt x="1304" y="48"/>
                  </a:lnTo>
                  <a:lnTo>
                    <a:pt x="1308" y="51"/>
                  </a:lnTo>
                  <a:lnTo>
                    <a:pt x="1312" y="53"/>
                  </a:lnTo>
                  <a:lnTo>
                    <a:pt x="1316" y="55"/>
                  </a:lnTo>
                  <a:lnTo>
                    <a:pt x="1320" y="58"/>
                  </a:lnTo>
                  <a:lnTo>
                    <a:pt x="1323" y="60"/>
                  </a:lnTo>
                  <a:lnTo>
                    <a:pt x="1327" y="62"/>
                  </a:lnTo>
                  <a:lnTo>
                    <a:pt x="1331" y="65"/>
                  </a:lnTo>
                  <a:lnTo>
                    <a:pt x="1335" y="67"/>
                  </a:lnTo>
                  <a:lnTo>
                    <a:pt x="1339" y="70"/>
                  </a:lnTo>
                  <a:lnTo>
                    <a:pt x="1343" y="73"/>
                  </a:lnTo>
                  <a:lnTo>
                    <a:pt x="1346" y="75"/>
                  </a:lnTo>
                  <a:lnTo>
                    <a:pt x="1350" y="78"/>
                  </a:lnTo>
                  <a:lnTo>
                    <a:pt x="1354" y="81"/>
                  </a:lnTo>
                  <a:lnTo>
                    <a:pt x="1358" y="84"/>
                  </a:lnTo>
                  <a:lnTo>
                    <a:pt x="1362" y="87"/>
                  </a:lnTo>
                  <a:lnTo>
                    <a:pt x="1366" y="90"/>
                  </a:lnTo>
                  <a:lnTo>
                    <a:pt x="1369" y="93"/>
                  </a:lnTo>
                  <a:lnTo>
                    <a:pt x="1373" y="96"/>
                  </a:lnTo>
                  <a:lnTo>
                    <a:pt x="1377" y="99"/>
                  </a:lnTo>
                  <a:lnTo>
                    <a:pt x="1381" y="102"/>
                  </a:lnTo>
                  <a:lnTo>
                    <a:pt x="1385" y="105"/>
                  </a:lnTo>
                  <a:lnTo>
                    <a:pt x="1388" y="108"/>
                  </a:lnTo>
                  <a:lnTo>
                    <a:pt x="1392" y="111"/>
                  </a:lnTo>
                  <a:lnTo>
                    <a:pt x="1396" y="115"/>
                  </a:lnTo>
                  <a:lnTo>
                    <a:pt x="1400" y="118"/>
                  </a:lnTo>
                  <a:lnTo>
                    <a:pt x="1404" y="121"/>
                  </a:lnTo>
                  <a:lnTo>
                    <a:pt x="1408" y="125"/>
                  </a:lnTo>
                  <a:lnTo>
                    <a:pt x="1411" y="128"/>
                  </a:lnTo>
                  <a:lnTo>
                    <a:pt x="1415" y="132"/>
                  </a:lnTo>
                  <a:lnTo>
                    <a:pt x="1419" y="135"/>
                  </a:lnTo>
                  <a:lnTo>
                    <a:pt x="1423" y="139"/>
                  </a:lnTo>
                  <a:lnTo>
                    <a:pt x="1427" y="142"/>
                  </a:lnTo>
                  <a:lnTo>
                    <a:pt x="1431" y="146"/>
                  </a:lnTo>
                  <a:lnTo>
                    <a:pt x="1434" y="150"/>
                  </a:lnTo>
                  <a:lnTo>
                    <a:pt x="1438" y="153"/>
                  </a:lnTo>
                  <a:lnTo>
                    <a:pt x="1442" y="157"/>
                  </a:lnTo>
                  <a:lnTo>
                    <a:pt x="1446" y="161"/>
                  </a:lnTo>
                  <a:lnTo>
                    <a:pt x="1450" y="165"/>
                  </a:lnTo>
                  <a:lnTo>
                    <a:pt x="1454" y="169"/>
                  </a:lnTo>
                  <a:lnTo>
                    <a:pt x="1457" y="172"/>
                  </a:lnTo>
                  <a:lnTo>
                    <a:pt x="1461" y="176"/>
                  </a:lnTo>
                  <a:lnTo>
                    <a:pt x="1465" y="180"/>
                  </a:lnTo>
                  <a:lnTo>
                    <a:pt x="1469" y="184"/>
                  </a:lnTo>
                  <a:lnTo>
                    <a:pt x="1473" y="188"/>
                  </a:lnTo>
                  <a:lnTo>
                    <a:pt x="1476" y="193"/>
                  </a:lnTo>
                  <a:lnTo>
                    <a:pt x="1480" y="197"/>
                  </a:lnTo>
                  <a:lnTo>
                    <a:pt x="1484" y="201"/>
                  </a:lnTo>
                  <a:lnTo>
                    <a:pt x="1488" y="205"/>
                  </a:lnTo>
                  <a:lnTo>
                    <a:pt x="1492" y="209"/>
                  </a:lnTo>
                  <a:lnTo>
                    <a:pt x="1496" y="214"/>
                  </a:lnTo>
                  <a:lnTo>
                    <a:pt x="1499" y="218"/>
                  </a:lnTo>
                  <a:lnTo>
                    <a:pt x="1503" y="222"/>
                  </a:lnTo>
                  <a:lnTo>
                    <a:pt x="1507" y="227"/>
                  </a:lnTo>
                  <a:lnTo>
                    <a:pt x="1511" y="231"/>
                  </a:lnTo>
                  <a:lnTo>
                    <a:pt x="1515" y="235"/>
                  </a:lnTo>
                  <a:lnTo>
                    <a:pt x="1519" y="240"/>
                  </a:lnTo>
                  <a:lnTo>
                    <a:pt x="1522" y="245"/>
                  </a:lnTo>
                  <a:lnTo>
                    <a:pt x="1526" y="249"/>
                  </a:lnTo>
                  <a:lnTo>
                    <a:pt x="1530" y="254"/>
                  </a:lnTo>
                  <a:lnTo>
                    <a:pt x="1534" y="258"/>
                  </a:lnTo>
                  <a:lnTo>
                    <a:pt x="1538" y="263"/>
                  </a:lnTo>
                  <a:lnTo>
                    <a:pt x="1542" y="268"/>
                  </a:lnTo>
                  <a:lnTo>
                    <a:pt x="1545" y="272"/>
                  </a:lnTo>
                  <a:lnTo>
                    <a:pt x="1549" y="277"/>
                  </a:lnTo>
                  <a:lnTo>
                    <a:pt x="1553" y="282"/>
                  </a:lnTo>
                  <a:lnTo>
                    <a:pt x="1557" y="287"/>
                  </a:lnTo>
                  <a:lnTo>
                    <a:pt x="1561" y="291"/>
                  </a:lnTo>
                  <a:lnTo>
                    <a:pt x="1564" y="296"/>
                  </a:lnTo>
                  <a:lnTo>
                    <a:pt x="1568" y="301"/>
                  </a:lnTo>
                  <a:lnTo>
                    <a:pt x="1572" y="306"/>
                  </a:lnTo>
                  <a:lnTo>
                    <a:pt x="1576" y="311"/>
                  </a:lnTo>
                  <a:lnTo>
                    <a:pt x="1580" y="316"/>
                  </a:lnTo>
                  <a:lnTo>
                    <a:pt x="1584" y="321"/>
                  </a:lnTo>
                  <a:lnTo>
                    <a:pt x="1587" y="326"/>
                  </a:lnTo>
                  <a:lnTo>
                    <a:pt x="1591" y="331"/>
                  </a:lnTo>
                  <a:lnTo>
                    <a:pt x="1595" y="336"/>
                  </a:lnTo>
                  <a:lnTo>
                    <a:pt x="1599" y="342"/>
                  </a:lnTo>
                  <a:lnTo>
                    <a:pt x="1603" y="347"/>
                  </a:lnTo>
                  <a:lnTo>
                    <a:pt x="1607" y="352"/>
                  </a:lnTo>
                  <a:lnTo>
                    <a:pt x="1610" y="357"/>
                  </a:lnTo>
                  <a:lnTo>
                    <a:pt x="1614" y="362"/>
                  </a:lnTo>
                  <a:lnTo>
                    <a:pt x="1618" y="368"/>
                  </a:lnTo>
                  <a:lnTo>
                    <a:pt x="1622" y="373"/>
                  </a:lnTo>
                  <a:lnTo>
                    <a:pt x="1626" y="378"/>
                  </a:lnTo>
                  <a:lnTo>
                    <a:pt x="1629" y="384"/>
                  </a:lnTo>
                  <a:lnTo>
                    <a:pt x="1633" y="389"/>
                  </a:lnTo>
                  <a:lnTo>
                    <a:pt x="1637" y="394"/>
                  </a:lnTo>
                  <a:lnTo>
                    <a:pt x="1641" y="400"/>
                  </a:lnTo>
                  <a:lnTo>
                    <a:pt x="1645" y="405"/>
                  </a:lnTo>
                  <a:lnTo>
                    <a:pt x="1649" y="411"/>
                  </a:lnTo>
                  <a:lnTo>
                    <a:pt x="1652" y="416"/>
                  </a:lnTo>
                  <a:lnTo>
                    <a:pt x="1656" y="422"/>
                  </a:lnTo>
                  <a:lnTo>
                    <a:pt x="1660" y="427"/>
                  </a:lnTo>
                  <a:lnTo>
                    <a:pt x="1664" y="433"/>
                  </a:lnTo>
                  <a:lnTo>
                    <a:pt x="1668" y="438"/>
                  </a:lnTo>
                  <a:lnTo>
                    <a:pt x="1672" y="444"/>
                  </a:lnTo>
                  <a:lnTo>
                    <a:pt x="1675" y="450"/>
                  </a:lnTo>
                  <a:lnTo>
                    <a:pt x="1679" y="455"/>
                  </a:lnTo>
                  <a:lnTo>
                    <a:pt x="1683" y="461"/>
                  </a:lnTo>
                  <a:lnTo>
                    <a:pt x="1687" y="467"/>
                  </a:lnTo>
                  <a:lnTo>
                    <a:pt x="1691" y="472"/>
                  </a:lnTo>
                  <a:lnTo>
                    <a:pt x="1695" y="478"/>
                  </a:lnTo>
                  <a:lnTo>
                    <a:pt x="1698" y="484"/>
                  </a:lnTo>
                  <a:lnTo>
                    <a:pt x="1702" y="490"/>
                  </a:lnTo>
                  <a:lnTo>
                    <a:pt x="1706" y="496"/>
                  </a:lnTo>
                  <a:lnTo>
                    <a:pt x="1710" y="501"/>
                  </a:lnTo>
                  <a:lnTo>
                    <a:pt x="1714" y="507"/>
                  </a:lnTo>
                  <a:lnTo>
                    <a:pt x="1717" y="513"/>
                  </a:lnTo>
                  <a:lnTo>
                    <a:pt x="1721" y="519"/>
                  </a:lnTo>
                  <a:lnTo>
                    <a:pt x="1725" y="525"/>
                  </a:lnTo>
                  <a:lnTo>
                    <a:pt x="1729" y="531"/>
                  </a:lnTo>
                  <a:lnTo>
                    <a:pt x="1733" y="537"/>
                  </a:lnTo>
                  <a:lnTo>
                    <a:pt x="1737" y="543"/>
                  </a:lnTo>
                  <a:lnTo>
                    <a:pt x="1740" y="549"/>
                  </a:lnTo>
                  <a:lnTo>
                    <a:pt x="1744" y="555"/>
                  </a:lnTo>
                  <a:lnTo>
                    <a:pt x="1748" y="561"/>
                  </a:lnTo>
                  <a:lnTo>
                    <a:pt x="1752" y="567"/>
                  </a:lnTo>
                  <a:lnTo>
                    <a:pt x="1756" y="573"/>
                  </a:lnTo>
                  <a:lnTo>
                    <a:pt x="1760" y="579"/>
                  </a:lnTo>
                  <a:lnTo>
                    <a:pt x="1763" y="585"/>
                  </a:lnTo>
                  <a:lnTo>
                    <a:pt x="1767" y="591"/>
                  </a:lnTo>
                  <a:lnTo>
                    <a:pt x="1771" y="597"/>
                  </a:lnTo>
                  <a:lnTo>
                    <a:pt x="1775" y="603"/>
                  </a:lnTo>
                  <a:lnTo>
                    <a:pt x="1779" y="609"/>
                  </a:lnTo>
                  <a:lnTo>
                    <a:pt x="1783" y="616"/>
                  </a:lnTo>
                  <a:lnTo>
                    <a:pt x="1786" y="622"/>
                  </a:lnTo>
                  <a:lnTo>
                    <a:pt x="1790" y="628"/>
                  </a:lnTo>
                  <a:lnTo>
                    <a:pt x="1794" y="634"/>
                  </a:lnTo>
                  <a:lnTo>
                    <a:pt x="1798" y="640"/>
                  </a:lnTo>
                  <a:lnTo>
                    <a:pt x="1802" y="647"/>
                  </a:lnTo>
                  <a:lnTo>
                    <a:pt x="1805" y="653"/>
                  </a:lnTo>
                  <a:lnTo>
                    <a:pt x="1809" y="659"/>
                  </a:lnTo>
                  <a:lnTo>
                    <a:pt x="1813" y="665"/>
                  </a:lnTo>
                  <a:lnTo>
                    <a:pt x="1817" y="672"/>
                  </a:lnTo>
                  <a:lnTo>
                    <a:pt x="1821" y="678"/>
                  </a:lnTo>
                  <a:lnTo>
                    <a:pt x="1825" y="684"/>
                  </a:lnTo>
                  <a:lnTo>
                    <a:pt x="1828" y="691"/>
                  </a:lnTo>
                  <a:lnTo>
                    <a:pt x="1832" y="697"/>
                  </a:lnTo>
                  <a:lnTo>
                    <a:pt x="1836" y="703"/>
                  </a:lnTo>
                  <a:lnTo>
                    <a:pt x="1840" y="710"/>
                  </a:lnTo>
                  <a:lnTo>
                    <a:pt x="1844" y="716"/>
                  </a:lnTo>
                  <a:lnTo>
                    <a:pt x="1848" y="722"/>
                  </a:lnTo>
                  <a:lnTo>
                    <a:pt x="1851" y="729"/>
                  </a:lnTo>
                  <a:lnTo>
                    <a:pt x="1855" y="735"/>
                  </a:lnTo>
                  <a:lnTo>
                    <a:pt x="1859" y="741"/>
                  </a:lnTo>
                  <a:lnTo>
                    <a:pt x="1863" y="748"/>
                  </a:lnTo>
                  <a:lnTo>
                    <a:pt x="1867" y="754"/>
                  </a:lnTo>
                  <a:lnTo>
                    <a:pt x="1870" y="761"/>
                  </a:lnTo>
                  <a:lnTo>
                    <a:pt x="1874" y="767"/>
                  </a:lnTo>
                  <a:lnTo>
                    <a:pt x="1878" y="774"/>
                  </a:lnTo>
                  <a:lnTo>
                    <a:pt x="1882" y="780"/>
                  </a:lnTo>
                  <a:lnTo>
                    <a:pt x="1886" y="786"/>
                  </a:lnTo>
                  <a:lnTo>
                    <a:pt x="1890" y="793"/>
                  </a:lnTo>
                  <a:lnTo>
                    <a:pt x="1893" y="799"/>
                  </a:lnTo>
                  <a:lnTo>
                    <a:pt x="1897" y="806"/>
                  </a:lnTo>
                  <a:lnTo>
                    <a:pt x="1901" y="812"/>
                  </a:lnTo>
                  <a:lnTo>
                    <a:pt x="1905" y="819"/>
                  </a:lnTo>
                  <a:lnTo>
                    <a:pt x="1909" y="825"/>
                  </a:lnTo>
                  <a:lnTo>
                    <a:pt x="1913" y="832"/>
                  </a:lnTo>
                  <a:lnTo>
                    <a:pt x="1916" y="838"/>
                  </a:lnTo>
                  <a:lnTo>
                    <a:pt x="1920" y="845"/>
                  </a:lnTo>
                  <a:lnTo>
                    <a:pt x="1924" y="851"/>
                  </a:lnTo>
                  <a:lnTo>
                    <a:pt x="1928" y="858"/>
                  </a:lnTo>
                  <a:lnTo>
                    <a:pt x="1932" y="864"/>
                  </a:lnTo>
                  <a:lnTo>
                    <a:pt x="1936" y="871"/>
                  </a:lnTo>
                  <a:lnTo>
                    <a:pt x="1939" y="878"/>
                  </a:lnTo>
                  <a:lnTo>
                    <a:pt x="1943" y="884"/>
                  </a:lnTo>
                  <a:lnTo>
                    <a:pt x="1947" y="891"/>
                  </a:lnTo>
                  <a:lnTo>
                    <a:pt x="1951" y="897"/>
                  </a:lnTo>
                  <a:lnTo>
                    <a:pt x="1955" y="904"/>
                  </a:lnTo>
                  <a:lnTo>
                    <a:pt x="1958" y="910"/>
                  </a:lnTo>
                  <a:lnTo>
                    <a:pt x="1962" y="917"/>
                  </a:lnTo>
                  <a:lnTo>
                    <a:pt x="1966" y="923"/>
                  </a:lnTo>
                  <a:lnTo>
                    <a:pt x="1970" y="930"/>
                  </a:lnTo>
                  <a:lnTo>
                    <a:pt x="1974" y="937"/>
                  </a:lnTo>
                  <a:lnTo>
                    <a:pt x="1978" y="943"/>
                  </a:lnTo>
                  <a:lnTo>
                    <a:pt x="1981" y="950"/>
                  </a:lnTo>
                  <a:lnTo>
                    <a:pt x="1985" y="956"/>
                  </a:lnTo>
                  <a:lnTo>
                    <a:pt x="1989" y="963"/>
                  </a:lnTo>
                  <a:lnTo>
                    <a:pt x="1993" y="969"/>
                  </a:lnTo>
                  <a:lnTo>
                    <a:pt x="1997" y="976"/>
                  </a:lnTo>
                  <a:lnTo>
                    <a:pt x="2001" y="983"/>
                  </a:lnTo>
                  <a:lnTo>
                    <a:pt x="2004" y="989"/>
                  </a:lnTo>
                  <a:lnTo>
                    <a:pt x="2008" y="996"/>
                  </a:lnTo>
                  <a:lnTo>
                    <a:pt x="2012" y="1002"/>
                  </a:lnTo>
                  <a:lnTo>
                    <a:pt x="2016" y="1009"/>
                  </a:lnTo>
                  <a:lnTo>
                    <a:pt x="2020" y="1015"/>
                  </a:lnTo>
                  <a:lnTo>
                    <a:pt x="2024" y="1022"/>
                  </a:lnTo>
                  <a:lnTo>
                    <a:pt x="2027" y="1029"/>
                  </a:lnTo>
                  <a:lnTo>
                    <a:pt x="2031" y="1035"/>
                  </a:lnTo>
                  <a:lnTo>
                    <a:pt x="2035" y="1042"/>
                  </a:lnTo>
                  <a:lnTo>
                    <a:pt x="2039" y="1048"/>
                  </a:lnTo>
                  <a:lnTo>
                    <a:pt x="2043" y="1055"/>
                  </a:lnTo>
                  <a:lnTo>
                    <a:pt x="2046" y="1061"/>
                  </a:lnTo>
                  <a:lnTo>
                    <a:pt x="2050" y="1068"/>
                  </a:lnTo>
                  <a:lnTo>
                    <a:pt x="2054" y="1075"/>
                  </a:lnTo>
                  <a:lnTo>
                    <a:pt x="2058" y="1081"/>
                  </a:lnTo>
                  <a:lnTo>
                    <a:pt x="2062" y="1088"/>
                  </a:lnTo>
                  <a:lnTo>
                    <a:pt x="2066" y="1094"/>
                  </a:lnTo>
                  <a:lnTo>
                    <a:pt x="2069" y="1101"/>
                  </a:lnTo>
                  <a:lnTo>
                    <a:pt x="2073" y="1107"/>
                  </a:lnTo>
                  <a:lnTo>
                    <a:pt x="2077" y="1114"/>
                  </a:lnTo>
                  <a:lnTo>
                    <a:pt x="2081" y="1120"/>
                  </a:lnTo>
                  <a:lnTo>
                    <a:pt x="2085" y="1127"/>
                  </a:lnTo>
                  <a:lnTo>
                    <a:pt x="2089" y="1133"/>
                  </a:lnTo>
                  <a:lnTo>
                    <a:pt x="2092" y="1140"/>
                  </a:lnTo>
                  <a:lnTo>
                    <a:pt x="2096" y="1146"/>
                  </a:lnTo>
                  <a:lnTo>
                    <a:pt x="2100" y="1153"/>
                  </a:lnTo>
                  <a:lnTo>
                    <a:pt x="2104" y="1159"/>
                  </a:lnTo>
                  <a:lnTo>
                    <a:pt x="2108" y="1166"/>
                  </a:lnTo>
                  <a:lnTo>
                    <a:pt x="2111" y="1172"/>
                  </a:lnTo>
                  <a:lnTo>
                    <a:pt x="2115" y="1179"/>
                  </a:lnTo>
                  <a:lnTo>
                    <a:pt x="2119" y="1185"/>
                  </a:lnTo>
                  <a:lnTo>
                    <a:pt x="2123" y="1192"/>
                  </a:lnTo>
                  <a:lnTo>
                    <a:pt x="2127" y="1198"/>
                  </a:lnTo>
                  <a:lnTo>
                    <a:pt x="2131" y="1205"/>
                  </a:lnTo>
                  <a:lnTo>
                    <a:pt x="2134" y="1211"/>
                  </a:lnTo>
                  <a:lnTo>
                    <a:pt x="2138" y="1218"/>
                  </a:lnTo>
                  <a:lnTo>
                    <a:pt x="2142" y="1224"/>
                  </a:lnTo>
                  <a:lnTo>
                    <a:pt x="2146" y="1231"/>
                  </a:lnTo>
                  <a:lnTo>
                    <a:pt x="2150" y="1237"/>
                  </a:lnTo>
                  <a:lnTo>
                    <a:pt x="2154" y="1243"/>
                  </a:lnTo>
                  <a:lnTo>
                    <a:pt x="2157" y="1250"/>
                  </a:lnTo>
                  <a:lnTo>
                    <a:pt x="2161" y="1256"/>
                  </a:lnTo>
                  <a:lnTo>
                    <a:pt x="2165" y="1263"/>
                  </a:lnTo>
                  <a:lnTo>
                    <a:pt x="2169" y="1269"/>
                  </a:lnTo>
                  <a:lnTo>
                    <a:pt x="2173" y="1275"/>
                  </a:lnTo>
                  <a:lnTo>
                    <a:pt x="2177" y="1282"/>
                  </a:lnTo>
                  <a:lnTo>
                    <a:pt x="2180" y="1288"/>
                  </a:lnTo>
                  <a:lnTo>
                    <a:pt x="2184" y="1294"/>
                  </a:lnTo>
                  <a:lnTo>
                    <a:pt x="2188" y="1301"/>
                  </a:lnTo>
                  <a:lnTo>
                    <a:pt x="2192" y="1307"/>
                  </a:lnTo>
                  <a:lnTo>
                    <a:pt x="2196" y="1313"/>
                  </a:lnTo>
                  <a:lnTo>
                    <a:pt x="2199" y="1320"/>
                  </a:lnTo>
                  <a:lnTo>
                    <a:pt x="2203" y="1326"/>
                  </a:lnTo>
                  <a:lnTo>
                    <a:pt x="2207" y="1332"/>
                  </a:lnTo>
                  <a:lnTo>
                    <a:pt x="2211" y="1338"/>
                  </a:lnTo>
                  <a:lnTo>
                    <a:pt x="2215" y="1345"/>
                  </a:lnTo>
                  <a:lnTo>
                    <a:pt x="2219" y="1351"/>
                  </a:lnTo>
                  <a:lnTo>
                    <a:pt x="2222" y="1357"/>
                  </a:lnTo>
                  <a:lnTo>
                    <a:pt x="2226" y="1363"/>
                  </a:lnTo>
                  <a:lnTo>
                    <a:pt x="2230" y="1370"/>
                  </a:lnTo>
                  <a:lnTo>
                    <a:pt x="2234" y="1376"/>
                  </a:lnTo>
                  <a:lnTo>
                    <a:pt x="2238" y="1382"/>
                  </a:lnTo>
                  <a:lnTo>
                    <a:pt x="2242" y="1388"/>
                  </a:lnTo>
                  <a:lnTo>
                    <a:pt x="2245" y="1394"/>
                  </a:lnTo>
                  <a:lnTo>
                    <a:pt x="2249" y="1401"/>
                  </a:lnTo>
                  <a:lnTo>
                    <a:pt x="2253" y="1407"/>
                  </a:lnTo>
                  <a:lnTo>
                    <a:pt x="2257" y="1413"/>
                  </a:lnTo>
                  <a:lnTo>
                    <a:pt x="2261" y="1419"/>
                  </a:lnTo>
                  <a:lnTo>
                    <a:pt x="2265" y="1425"/>
                  </a:lnTo>
                  <a:lnTo>
                    <a:pt x="2268" y="1431"/>
                  </a:lnTo>
                  <a:lnTo>
                    <a:pt x="2272" y="1437"/>
                  </a:lnTo>
                  <a:lnTo>
                    <a:pt x="2276" y="1443"/>
                  </a:lnTo>
                  <a:lnTo>
                    <a:pt x="2280" y="1449"/>
                  </a:lnTo>
                  <a:lnTo>
                    <a:pt x="2284" y="1455"/>
                  </a:lnTo>
                  <a:lnTo>
                    <a:pt x="2287" y="1461"/>
                  </a:lnTo>
                  <a:lnTo>
                    <a:pt x="2291" y="1467"/>
                  </a:lnTo>
                  <a:lnTo>
                    <a:pt x="2295" y="1473"/>
                  </a:lnTo>
                  <a:lnTo>
                    <a:pt x="2299" y="1479"/>
                  </a:lnTo>
                  <a:lnTo>
                    <a:pt x="2303" y="1485"/>
                  </a:lnTo>
                  <a:lnTo>
                    <a:pt x="2307" y="1491"/>
                  </a:lnTo>
                  <a:lnTo>
                    <a:pt x="2310" y="1497"/>
                  </a:lnTo>
                  <a:lnTo>
                    <a:pt x="2314" y="1503"/>
                  </a:lnTo>
                  <a:lnTo>
                    <a:pt x="2318" y="1509"/>
                  </a:lnTo>
                  <a:lnTo>
                    <a:pt x="2322" y="1515"/>
                  </a:lnTo>
                  <a:lnTo>
                    <a:pt x="2326" y="1521"/>
                  </a:lnTo>
                  <a:lnTo>
                    <a:pt x="2330" y="1527"/>
                  </a:lnTo>
                  <a:lnTo>
                    <a:pt x="2333" y="1533"/>
                  </a:lnTo>
                  <a:lnTo>
                    <a:pt x="2337" y="1538"/>
                  </a:lnTo>
                  <a:lnTo>
                    <a:pt x="2341" y="1544"/>
                  </a:lnTo>
                  <a:lnTo>
                    <a:pt x="2345" y="1550"/>
                  </a:lnTo>
                  <a:lnTo>
                    <a:pt x="2349" y="1556"/>
                  </a:lnTo>
                  <a:lnTo>
                    <a:pt x="2352" y="1562"/>
                  </a:lnTo>
                  <a:lnTo>
                    <a:pt x="2356" y="1567"/>
                  </a:lnTo>
                  <a:lnTo>
                    <a:pt x="2360" y="1573"/>
                  </a:lnTo>
                  <a:lnTo>
                    <a:pt x="2364" y="1579"/>
                  </a:lnTo>
                  <a:lnTo>
                    <a:pt x="2368" y="1585"/>
                  </a:lnTo>
                  <a:lnTo>
                    <a:pt x="2372" y="1590"/>
                  </a:lnTo>
                  <a:lnTo>
                    <a:pt x="2375" y="1596"/>
                  </a:lnTo>
                  <a:lnTo>
                    <a:pt x="2379" y="1602"/>
                  </a:lnTo>
                  <a:lnTo>
                    <a:pt x="2383" y="1607"/>
                  </a:lnTo>
                  <a:lnTo>
                    <a:pt x="2387" y="1613"/>
                  </a:lnTo>
                  <a:lnTo>
                    <a:pt x="2391" y="1618"/>
                  </a:lnTo>
                  <a:lnTo>
                    <a:pt x="2395" y="1624"/>
                  </a:lnTo>
                  <a:lnTo>
                    <a:pt x="2398" y="1630"/>
                  </a:lnTo>
                  <a:lnTo>
                    <a:pt x="2402" y="1635"/>
                  </a:lnTo>
                  <a:lnTo>
                    <a:pt x="2406" y="1641"/>
                  </a:lnTo>
                  <a:lnTo>
                    <a:pt x="2410" y="1646"/>
                  </a:lnTo>
                  <a:lnTo>
                    <a:pt x="2414" y="1652"/>
                  </a:lnTo>
                  <a:lnTo>
                    <a:pt x="2418" y="1657"/>
                  </a:lnTo>
                  <a:lnTo>
                    <a:pt x="2421" y="1663"/>
                  </a:lnTo>
                  <a:lnTo>
                    <a:pt x="2425" y="1668"/>
                  </a:lnTo>
                  <a:lnTo>
                    <a:pt x="2429" y="1673"/>
                  </a:lnTo>
                  <a:lnTo>
                    <a:pt x="2433" y="1679"/>
                  </a:lnTo>
                  <a:lnTo>
                    <a:pt x="2437" y="1684"/>
                  </a:lnTo>
                  <a:lnTo>
                    <a:pt x="2440" y="1690"/>
                  </a:lnTo>
                  <a:lnTo>
                    <a:pt x="2444" y="1695"/>
                  </a:lnTo>
                  <a:lnTo>
                    <a:pt x="2448" y="1700"/>
                  </a:lnTo>
                  <a:lnTo>
                    <a:pt x="2452" y="1706"/>
                  </a:lnTo>
                  <a:lnTo>
                    <a:pt x="2456" y="1711"/>
                  </a:lnTo>
                  <a:lnTo>
                    <a:pt x="2460" y="1716"/>
                  </a:lnTo>
                  <a:lnTo>
                    <a:pt x="2463" y="1721"/>
                  </a:lnTo>
                  <a:lnTo>
                    <a:pt x="2467" y="1727"/>
                  </a:lnTo>
                  <a:lnTo>
                    <a:pt x="2471" y="1732"/>
                  </a:lnTo>
                  <a:lnTo>
                    <a:pt x="2475" y="1737"/>
                  </a:lnTo>
                  <a:lnTo>
                    <a:pt x="2479" y="1742"/>
                  </a:lnTo>
                  <a:lnTo>
                    <a:pt x="2483" y="1747"/>
                  </a:lnTo>
                  <a:lnTo>
                    <a:pt x="2486" y="1753"/>
                  </a:lnTo>
                  <a:lnTo>
                    <a:pt x="2490" y="1758"/>
                  </a:lnTo>
                  <a:lnTo>
                    <a:pt x="2494" y="1763"/>
                  </a:lnTo>
                  <a:lnTo>
                    <a:pt x="2498" y="1768"/>
                  </a:lnTo>
                  <a:lnTo>
                    <a:pt x="2502" y="1773"/>
                  </a:lnTo>
                  <a:lnTo>
                    <a:pt x="2506" y="1778"/>
                  </a:lnTo>
                  <a:lnTo>
                    <a:pt x="2509" y="1783"/>
                  </a:lnTo>
                  <a:lnTo>
                    <a:pt x="2513" y="1788"/>
                  </a:lnTo>
                  <a:lnTo>
                    <a:pt x="2517" y="1793"/>
                  </a:lnTo>
                  <a:lnTo>
                    <a:pt x="2521" y="1798"/>
                  </a:lnTo>
                  <a:lnTo>
                    <a:pt x="2525" y="1803"/>
                  </a:lnTo>
                  <a:lnTo>
                    <a:pt x="2528" y="1808"/>
                  </a:lnTo>
                  <a:lnTo>
                    <a:pt x="2532" y="1813"/>
                  </a:lnTo>
                  <a:lnTo>
                    <a:pt x="2536" y="1818"/>
                  </a:lnTo>
                  <a:lnTo>
                    <a:pt x="2540" y="1822"/>
                  </a:lnTo>
                  <a:lnTo>
                    <a:pt x="2544" y="1827"/>
                  </a:lnTo>
                  <a:lnTo>
                    <a:pt x="2548" y="1832"/>
                  </a:lnTo>
                  <a:lnTo>
                    <a:pt x="2551" y="1837"/>
                  </a:lnTo>
                  <a:lnTo>
                    <a:pt x="2555" y="1842"/>
                  </a:lnTo>
                  <a:lnTo>
                    <a:pt x="2559" y="1846"/>
                  </a:lnTo>
                  <a:lnTo>
                    <a:pt x="2563" y="1851"/>
                  </a:lnTo>
                  <a:lnTo>
                    <a:pt x="2567" y="1856"/>
                  </a:lnTo>
                  <a:lnTo>
                    <a:pt x="2571" y="1861"/>
                  </a:lnTo>
                  <a:lnTo>
                    <a:pt x="2574" y="1865"/>
                  </a:lnTo>
                  <a:lnTo>
                    <a:pt x="2578" y="1870"/>
                  </a:lnTo>
                  <a:lnTo>
                    <a:pt x="2582" y="1874"/>
                  </a:lnTo>
                  <a:lnTo>
                    <a:pt x="2586" y="1879"/>
                  </a:lnTo>
                  <a:lnTo>
                    <a:pt x="2590" y="1884"/>
                  </a:lnTo>
                  <a:lnTo>
                    <a:pt x="2593" y="1888"/>
                  </a:lnTo>
                  <a:lnTo>
                    <a:pt x="2597" y="1893"/>
                  </a:lnTo>
                  <a:lnTo>
                    <a:pt x="2601" y="1897"/>
                  </a:lnTo>
                  <a:lnTo>
                    <a:pt x="2605" y="1902"/>
                  </a:lnTo>
                  <a:lnTo>
                    <a:pt x="2609" y="1906"/>
                  </a:lnTo>
                  <a:lnTo>
                    <a:pt x="2613" y="1911"/>
                  </a:lnTo>
                  <a:lnTo>
                    <a:pt x="2616" y="1915"/>
                  </a:lnTo>
                  <a:lnTo>
                    <a:pt x="2620" y="1920"/>
                  </a:lnTo>
                  <a:lnTo>
                    <a:pt x="2624" y="1924"/>
                  </a:lnTo>
                  <a:lnTo>
                    <a:pt x="2628" y="1928"/>
                  </a:lnTo>
                  <a:lnTo>
                    <a:pt x="2632" y="1933"/>
                  </a:lnTo>
                  <a:lnTo>
                    <a:pt x="2636" y="1937"/>
                  </a:lnTo>
                  <a:lnTo>
                    <a:pt x="2639" y="1941"/>
                  </a:lnTo>
                  <a:lnTo>
                    <a:pt x="2643" y="1946"/>
                  </a:lnTo>
                  <a:lnTo>
                    <a:pt x="2647" y="1950"/>
                  </a:lnTo>
                  <a:lnTo>
                    <a:pt x="2651" y="1954"/>
                  </a:lnTo>
                  <a:lnTo>
                    <a:pt x="2655" y="1958"/>
                  </a:lnTo>
                  <a:lnTo>
                    <a:pt x="2659" y="1963"/>
                  </a:lnTo>
                  <a:lnTo>
                    <a:pt x="2662" y="1967"/>
                  </a:lnTo>
                  <a:lnTo>
                    <a:pt x="2666" y="1971"/>
                  </a:lnTo>
                  <a:lnTo>
                    <a:pt x="2670" y="1975"/>
                  </a:lnTo>
                  <a:lnTo>
                    <a:pt x="2674" y="1979"/>
                  </a:lnTo>
                  <a:lnTo>
                    <a:pt x="2678" y="1983"/>
                  </a:lnTo>
                  <a:lnTo>
                    <a:pt x="2681" y="1987"/>
                  </a:lnTo>
                  <a:lnTo>
                    <a:pt x="2685" y="1991"/>
                  </a:lnTo>
                  <a:lnTo>
                    <a:pt x="2689" y="1995"/>
                  </a:lnTo>
                  <a:lnTo>
                    <a:pt x="2693" y="1999"/>
                  </a:lnTo>
                  <a:lnTo>
                    <a:pt x="2697" y="2003"/>
                  </a:lnTo>
                  <a:lnTo>
                    <a:pt x="2701" y="2007"/>
                  </a:lnTo>
                  <a:lnTo>
                    <a:pt x="2704" y="2011"/>
                  </a:lnTo>
                  <a:lnTo>
                    <a:pt x="2708" y="2015"/>
                  </a:lnTo>
                  <a:lnTo>
                    <a:pt x="2712" y="2019"/>
                  </a:lnTo>
                  <a:lnTo>
                    <a:pt x="2716" y="2023"/>
                  </a:lnTo>
                  <a:lnTo>
                    <a:pt x="2720" y="2027"/>
                  </a:lnTo>
                  <a:lnTo>
                    <a:pt x="2724" y="2031"/>
                  </a:lnTo>
                  <a:lnTo>
                    <a:pt x="2727" y="2034"/>
                  </a:lnTo>
                  <a:lnTo>
                    <a:pt x="2731" y="2038"/>
                  </a:lnTo>
                  <a:lnTo>
                    <a:pt x="2735" y="2042"/>
                  </a:lnTo>
                  <a:lnTo>
                    <a:pt x="2739" y="2046"/>
                  </a:lnTo>
                  <a:lnTo>
                    <a:pt x="2743" y="2050"/>
                  </a:lnTo>
                  <a:lnTo>
                    <a:pt x="2747" y="2053"/>
                  </a:lnTo>
                  <a:lnTo>
                    <a:pt x="2750" y="2057"/>
                  </a:lnTo>
                  <a:lnTo>
                    <a:pt x="2754" y="2061"/>
                  </a:lnTo>
                  <a:lnTo>
                    <a:pt x="2758" y="2064"/>
                  </a:lnTo>
                  <a:lnTo>
                    <a:pt x="2762" y="2068"/>
                  </a:lnTo>
                  <a:lnTo>
                    <a:pt x="2766" y="2071"/>
                  </a:lnTo>
                  <a:lnTo>
                    <a:pt x="2769" y="2075"/>
                  </a:lnTo>
                  <a:lnTo>
                    <a:pt x="2773" y="2079"/>
                  </a:lnTo>
                  <a:lnTo>
                    <a:pt x="2777" y="2082"/>
                  </a:lnTo>
                  <a:lnTo>
                    <a:pt x="2781" y="2086"/>
                  </a:lnTo>
                  <a:lnTo>
                    <a:pt x="2785" y="2089"/>
                  </a:lnTo>
                  <a:lnTo>
                    <a:pt x="2789" y="2093"/>
                  </a:lnTo>
                  <a:lnTo>
                    <a:pt x="2792" y="2096"/>
                  </a:lnTo>
                  <a:lnTo>
                    <a:pt x="2796" y="2099"/>
                  </a:lnTo>
                  <a:lnTo>
                    <a:pt x="2800" y="2103"/>
                  </a:lnTo>
                  <a:lnTo>
                    <a:pt x="2804" y="2106"/>
                  </a:lnTo>
                  <a:lnTo>
                    <a:pt x="2808" y="2110"/>
                  </a:lnTo>
                  <a:lnTo>
                    <a:pt x="2812" y="2113"/>
                  </a:lnTo>
                  <a:lnTo>
                    <a:pt x="2815" y="2116"/>
                  </a:lnTo>
                  <a:lnTo>
                    <a:pt x="2819" y="2119"/>
                  </a:lnTo>
                  <a:lnTo>
                    <a:pt x="2823" y="2123"/>
                  </a:lnTo>
                  <a:lnTo>
                    <a:pt x="2827" y="2126"/>
                  </a:lnTo>
                  <a:lnTo>
                    <a:pt x="2831" y="2129"/>
                  </a:lnTo>
                  <a:lnTo>
                    <a:pt x="2834" y="2132"/>
                  </a:lnTo>
                  <a:lnTo>
                    <a:pt x="2838" y="2136"/>
                  </a:lnTo>
                  <a:lnTo>
                    <a:pt x="2842" y="2139"/>
                  </a:lnTo>
                  <a:lnTo>
                    <a:pt x="2846" y="2142"/>
                  </a:lnTo>
                  <a:lnTo>
                    <a:pt x="2850" y="2145"/>
                  </a:lnTo>
                  <a:lnTo>
                    <a:pt x="2854" y="2148"/>
                  </a:lnTo>
                  <a:lnTo>
                    <a:pt x="2857" y="2151"/>
                  </a:lnTo>
                  <a:lnTo>
                    <a:pt x="2861" y="2154"/>
                  </a:lnTo>
                  <a:lnTo>
                    <a:pt x="2865" y="2157"/>
                  </a:lnTo>
                  <a:lnTo>
                    <a:pt x="2869" y="2160"/>
                  </a:lnTo>
                  <a:lnTo>
                    <a:pt x="2873" y="2163"/>
                  </a:lnTo>
                  <a:lnTo>
                    <a:pt x="2877" y="2166"/>
                  </a:lnTo>
                  <a:lnTo>
                    <a:pt x="2880" y="2169"/>
                  </a:lnTo>
                  <a:lnTo>
                    <a:pt x="2884" y="2172"/>
                  </a:lnTo>
                  <a:lnTo>
                    <a:pt x="2888" y="2175"/>
                  </a:lnTo>
                  <a:lnTo>
                    <a:pt x="2892" y="2178"/>
                  </a:lnTo>
                  <a:lnTo>
                    <a:pt x="2896" y="2181"/>
                  </a:lnTo>
                  <a:lnTo>
                    <a:pt x="2900" y="2184"/>
                  </a:lnTo>
                  <a:lnTo>
                    <a:pt x="2903" y="2187"/>
                  </a:lnTo>
                  <a:lnTo>
                    <a:pt x="2907" y="2190"/>
                  </a:lnTo>
                  <a:lnTo>
                    <a:pt x="2911" y="2192"/>
                  </a:lnTo>
                  <a:lnTo>
                    <a:pt x="2915" y="2195"/>
                  </a:lnTo>
                  <a:lnTo>
                    <a:pt x="2919" y="2198"/>
                  </a:lnTo>
                  <a:lnTo>
                    <a:pt x="2922" y="2201"/>
                  </a:lnTo>
                  <a:lnTo>
                    <a:pt x="2926" y="2203"/>
                  </a:lnTo>
                  <a:lnTo>
                    <a:pt x="2930" y="2206"/>
                  </a:lnTo>
                  <a:lnTo>
                    <a:pt x="2934" y="2209"/>
                  </a:lnTo>
                  <a:lnTo>
                    <a:pt x="2938" y="2211"/>
                  </a:lnTo>
                  <a:lnTo>
                    <a:pt x="2942" y="2214"/>
                  </a:lnTo>
                  <a:lnTo>
                    <a:pt x="2945" y="2217"/>
                  </a:lnTo>
                  <a:lnTo>
                    <a:pt x="2949" y="2219"/>
                  </a:lnTo>
                  <a:lnTo>
                    <a:pt x="2953" y="2222"/>
                  </a:lnTo>
                  <a:lnTo>
                    <a:pt x="2957" y="2225"/>
                  </a:lnTo>
                  <a:lnTo>
                    <a:pt x="2961" y="2227"/>
                  </a:lnTo>
                  <a:lnTo>
                    <a:pt x="2965" y="2230"/>
                  </a:lnTo>
                  <a:lnTo>
                    <a:pt x="2968" y="2232"/>
                  </a:lnTo>
                  <a:lnTo>
                    <a:pt x="2972" y="2235"/>
                  </a:lnTo>
                  <a:lnTo>
                    <a:pt x="2976" y="2237"/>
                  </a:lnTo>
                  <a:lnTo>
                    <a:pt x="2980" y="2240"/>
                  </a:lnTo>
                  <a:lnTo>
                    <a:pt x="2984" y="2242"/>
                  </a:lnTo>
                  <a:lnTo>
                    <a:pt x="2988" y="2244"/>
                  </a:lnTo>
                  <a:lnTo>
                    <a:pt x="2991" y="2247"/>
                  </a:lnTo>
                  <a:lnTo>
                    <a:pt x="2995" y="2249"/>
                  </a:lnTo>
                  <a:lnTo>
                    <a:pt x="2999" y="2252"/>
                  </a:lnTo>
                  <a:lnTo>
                    <a:pt x="3003" y="2254"/>
                  </a:lnTo>
                  <a:lnTo>
                    <a:pt x="3007" y="2256"/>
                  </a:lnTo>
                  <a:lnTo>
                    <a:pt x="3010" y="2259"/>
                  </a:lnTo>
                  <a:lnTo>
                    <a:pt x="3014" y="2261"/>
                  </a:lnTo>
                  <a:lnTo>
                    <a:pt x="3018" y="2263"/>
                  </a:lnTo>
                  <a:lnTo>
                    <a:pt x="3022" y="2265"/>
                  </a:lnTo>
                  <a:lnTo>
                    <a:pt x="3026" y="2268"/>
                  </a:lnTo>
                  <a:lnTo>
                    <a:pt x="3030" y="2270"/>
                  </a:lnTo>
                  <a:lnTo>
                    <a:pt x="3033" y="2272"/>
                  </a:lnTo>
                  <a:lnTo>
                    <a:pt x="3037" y="2274"/>
                  </a:lnTo>
                  <a:lnTo>
                    <a:pt x="3041" y="2276"/>
                  </a:lnTo>
                  <a:lnTo>
                    <a:pt x="3045" y="2279"/>
                  </a:lnTo>
                  <a:lnTo>
                    <a:pt x="3049" y="2281"/>
                  </a:lnTo>
                  <a:lnTo>
                    <a:pt x="3053" y="2283"/>
                  </a:lnTo>
                  <a:lnTo>
                    <a:pt x="3056" y="2285"/>
                  </a:lnTo>
                  <a:lnTo>
                    <a:pt x="3060" y="2287"/>
                  </a:lnTo>
                  <a:lnTo>
                    <a:pt x="3064" y="2289"/>
                  </a:lnTo>
                  <a:lnTo>
                    <a:pt x="3068" y="2291"/>
                  </a:lnTo>
                  <a:lnTo>
                    <a:pt x="3072" y="2293"/>
                  </a:lnTo>
                  <a:lnTo>
                    <a:pt x="3075" y="2295"/>
                  </a:lnTo>
                  <a:lnTo>
                    <a:pt x="3079" y="2297"/>
                  </a:lnTo>
                  <a:lnTo>
                    <a:pt x="3083" y="2299"/>
                  </a:lnTo>
                  <a:lnTo>
                    <a:pt x="3087" y="2301"/>
                  </a:lnTo>
                  <a:lnTo>
                    <a:pt x="3091" y="2303"/>
                  </a:lnTo>
                  <a:lnTo>
                    <a:pt x="3095" y="2305"/>
                  </a:lnTo>
                  <a:lnTo>
                    <a:pt x="3098" y="2307"/>
                  </a:lnTo>
                  <a:lnTo>
                    <a:pt x="3102" y="2309"/>
                  </a:lnTo>
                  <a:lnTo>
                    <a:pt x="3106" y="2311"/>
                  </a:lnTo>
                  <a:lnTo>
                    <a:pt x="3110" y="2313"/>
                  </a:lnTo>
                  <a:lnTo>
                    <a:pt x="3114" y="2315"/>
                  </a:lnTo>
                  <a:lnTo>
                    <a:pt x="3118" y="2316"/>
                  </a:lnTo>
                  <a:lnTo>
                    <a:pt x="3121" y="2318"/>
                  </a:lnTo>
                  <a:lnTo>
                    <a:pt x="3125" y="2320"/>
                  </a:lnTo>
                  <a:lnTo>
                    <a:pt x="3129" y="2322"/>
                  </a:lnTo>
                  <a:lnTo>
                    <a:pt x="3133" y="2324"/>
                  </a:lnTo>
                  <a:lnTo>
                    <a:pt x="3137" y="2325"/>
                  </a:lnTo>
                  <a:lnTo>
                    <a:pt x="3141" y="2327"/>
                  </a:lnTo>
                  <a:lnTo>
                    <a:pt x="3144" y="2329"/>
                  </a:lnTo>
                  <a:lnTo>
                    <a:pt x="3148" y="2331"/>
                  </a:lnTo>
                  <a:lnTo>
                    <a:pt x="3152" y="2332"/>
                  </a:lnTo>
                  <a:lnTo>
                    <a:pt x="3156" y="2334"/>
                  </a:lnTo>
                  <a:lnTo>
                    <a:pt x="3160" y="2336"/>
                  </a:lnTo>
                  <a:lnTo>
                    <a:pt x="3163" y="2337"/>
                  </a:lnTo>
                  <a:lnTo>
                    <a:pt x="3167" y="2339"/>
                  </a:lnTo>
                  <a:lnTo>
                    <a:pt x="3171" y="2341"/>
                  </a:lnTo>
                  <a:lnTo>
                    <a:pt x="3175" y="2342"/>
                  </a:lnTo>
                  <a:lnTo>
                    <a:pt x="3179" y="2344"/>
                  </a:lnTo>
                  <a:lnTo>
                    <a:pt x="3183" y="2346"/>
                  </a:lnTo>
                  <a:lnTo>
                    <a:pt x="3186" y="2347"/>
                  </a:lnTo>
                  <a:lnTo>
                    <a:pt x="3190" y="2349"/>
                  </a:lnTo>
                  <a:lnTo>
                    <a:pt x="3194" y="2350"/>
                  </a:lnTo>
                  <a:lnTo>
                    <a:pt x="3198" y="2352"/>
                  </a:lnTo>
                  <a:lnTo>
                    <a:pt x="3202" y="2354"/>
                  </a:lnTo>
                  <a:lnTo>
                    <a:pt x="3206" y="2355"/>
                  </a:lnTo>
                  <a:lnTo>
                    <a:pt x="3209" y="2357"/>
                  </a:lnTo>
                  <a:lnTo>
                    <a:pt x="3213" y="2358"/>
                  </a:lnTo>
                  <a:lnTo>
                    <a:pt x="3217" y="2360"/>
                  </a:lnTo>
                  <a:lnTo>
                    <a:pt x="3221" y="2361"/>
                  </a:lnTo>
                  <a:lnTo>
                    <a:pt x="3225" y="2363"/>
                  </a:lnTo>
                  <a:lnTo>
                    <a:pt x="3229" y="2364"/>
                  </a:lnTo>
                  <a:lnTo>
                    <a:pt x="3232" y="2365"/>
                  </a:lnTo>
                  <a:lnTo>
                    <a:pt x="3236" y="2367"/>
                  </a:lnTo>
                  <a:lnTo>
                    <a:pt x="3240" y="2368"/>
                  </a:lnTo>
                  <a:lnTo>
                    <a:pt x="3244" y="2370"/>
                  </a:lnTo>
                  <a:lnTo>
                    <a:pt x="3248" y="2371"/>
                  </a:lnTo>
                  <a:lnTo>
                    <a:pt x="3251" y="2373"/>
                  </a:lnTo>
                  <a:lnTo>
                    <a:pt x="3255" y="2374"/>
                  </a:lnTo>
                  <a:lnTo>
                    <a:pt x="3259" y="2375"/>
                  </a:lnTo>
                  <a:lnTo>
                    <a:pt x="3263" y="2377"/>
                  </a:lnTo>
                  <a:lnTo>
                    <a:pt x="3267" y="2378"/>
                  </a:lnTo>
                  <a:lnTo>
                    <a:pt x="3271" y="2379"/>
                  </a:lnTo>
                  <a:lnTo>
                    <a:pt x="3274" y="2381"/>
                  </a:lnTo>
                  <a:lnTo>
                    <a:pt x="3278" y="2382"/>
                  </a:lnTo>
                  <a:lnTo>
                    <a:pt x="3282" y="2383"/>
                  </a:lnTo>
                  <a:lnTo>
                    <a:pt x="3286" y="2385"/>
                  </a:lnTo>
                  <a:lnTo>
                    <a:pt x="3290" y="2386"/>
                  </a:lnTo>
                  <a:lnTo>
                    <a:pt x="3294" y="2387"/>
                  </a:lnTo>
                  <a:lnTo>
                    <a:pt x="3297" y="2388"/>
                  </a:lnTo>
                  <a:lnTo>
                    <a:pt x="3301" y="2390"/>
                  </a:lnTo>
                  <a:lnTo>
                    <a:pt x="3305" y="2391"/>
                  </a:lnTo>
                  <a:lnTo>
                    <a:pt x="3309" y="2392"/>
                  </a:lnTo>
                  <a:lnTo>
                    <a:pt x="3313" y="2393"/>
                  </a:lnTo>
                  <a:lnTo>
                    <a:pt x="3316" y="2395"/>
                  </a:lnTo>
                  <a:lnTo>
                    <a:pt x="3320" y="2396"/>
                  </a:lnTo>
                  <a:lnTo>
                    <a:pt x="3324" y="2397"/>
                  </a:lnTo>
                  <a:lnTo>
                    <a:pt x="3328" y="2398"/>
                  </a:lnTo>
                  <a:lnTo>
                    <a:pt x="3332" y="2400"/>
                  </a:lnTo>
                  <a:lnTo>
                    <a:pt x="3336" y="2401"/>
                  </a:lnTo>
                  <a:lnTo>
                    <a:pt x="3339" y="2402"/>
                  </a:lnTo>
                  <a:lnTo>
                    <a:pt x="3343" y="2403"/>
                  </a:lnTo>
                  <a:lnTo>
                    <a:pt x="3347" y="2404"/>
                  </a:lnTo>
                  <a:lnTo>
                    <a:pt x="3351" y="2405"/>
                  </a:lnTo>
                  <a:lnTo>
                    <a:pt x="3355" y="2406"/>
                  </a:lnTo>
                  <a:lnTo>
                    <a:pt x="3359" y="2408"/>
                  </a:lnTo>
                  <a:lnTo>
                    <a:pt x="3362" y="2409"/>
                  </a:lnTo>
                  <a:lnTo>
                    <a:pt x="3366" y="2410"/>
                  </a:lnTo>
                  <a:lnTo>
                    <a:pt x="3370" y="2411"/>
                  </a:lnTo>
                  <a:lnTo>
                    <a:pt x="3374" y="2412"/>
                  </a:lnTo>
                  <a:lnTo>
                    <a:pt x="3378" y="2413"/>
                  </a:lnTo>
                  <a:lnTo>
                    <a:pt x="3382" y="2414"/>
                  </a:lnTo>
                  <a:lnTo>
                    <a:pt x="3385" y="2415"/>
                  </a:lnTo>
                  <a:lnTo>
                    <a:pt x="3389" y="2416"/>
                  </a:lnTo>
                  <a:lnTo>
                    <a:pt x="3393" y="2418"/>
                  </a:lnTo>
                  <a:lnTo>
                    <a:pt x="3397" y="2419"/>
                  </a:lnTo>
                  <a:lnTo>
                    <a:pt x="3401" y="2420"/>
                  </a:lnTo>
                  <a:lnTo>
                    <a:pt x="3404" y="2421"/>
                  </a:lnTo>
                  <a:lnTo>
                    <a:pt x="3408" y="2422"/>
                  </a:lnTo>
                  <a:lnTo>
                    <a:pt x="3412" y="2423"/>
                  </a:lnTo>
                  <a:lnTo>
                    <a:pt x="3416" y="2424"/>
                  </a:lnTo>
                  <a:lnTo>
                    <a:pt x="3420" y="2425"/>
                  </a:lnTo>
                  <a:lnTo>
                    <a:pt x="3424" y="2426"/>
                  </a:lnTo>
                  <a:lnTo>
                    <a:pt x="3427" y="2427"/>
                  </a:lnTo>
                  <a:lnTo>
                    <a:pt x="3431" y="2428"/>
                  </a:lnTo>
                  <a:lnTo>
                    <a:pt x="3435" y="2429"/>
                  </a:lnTo>
                  <a:lnTo>
                    <a:pt x="3439" y="2430"/>
                  </a:lnTo>
                  <a:lnTo>
                    <a:pt x="3443" y="2431"/>
                  </a:lnTo>
                  <a:lnTo>
                    <a:pt x="3447" y="2432"/>
                  </a:lnTo>
                  <a:lnTo>
                    <a:pt x="3450" y="2433"/>
                  </a:lnTo>
                  <a:lnTo>
                    <a:pt x="3454" y="2434"/>
                  </a:lnTo>
                  <a:lnTo>
                    <a:pt x="3458" y="2435"/>
                  </a:lnTo>
                  <a:lnTo>
                    <a:pt x="3462" y="2436"/>
                  </a:lnTo>
                  <a:lnTo>
                    <a:pt x="3466" y="2437"/>
                  </a:lnTo>
                  <a:lnTo>
                    <a:pt x="3470" y="2438"/>
                  </a:lnTo>
                  <a:lnTo>
                    <a:pt x="3473" y="2439"/>
                  </a:lnTo>
                  <a:lnTo>
                    <a:pt x="3477" y="2440"/>
                  </a:lnTo>
                  <a:lnTo>
                    <a:pt x="3481" y="2441"/>
                  </a:lnTo>
                  <a:lnTo>
                    <a:pt x="3485" y="2442"/>
                  </a:lnTo>
                  <a:lnTo>
                    <a:pt x="3489" y="2443"/>
                  </a:lnTo>
                  <a:lnTo>
                    <a:pt x="3492" y="2444"/>
                  </a:lnTo>
                  <a:lnTo>
                    <a:pt x="3496" y="2445"/>
                  </a:lnTo>
                  <a:lnTo>
                    <a:pt x="3500" y="2446"/>
                  </a:lnTo>
                  <a:lnTo>
                    <a:pt x="3504" y="2447"/>
                  </a:lnTo>
                  <a:lnTo>
                    <a:pt x="3508" y="2448"/>
                  </a:lnTo>
                  <a:lnTo>
                    <a:pt x="3512" y="2449"/>
                  </a:lnTo>
                  <a:lnTo>
                    <a:pt x="3515" y="2449"/>
                  </a:lnTo>
                  <a:lnTo>
                    <a:pt x="3519" y="2450"/>
                  </a:lnTo>
                  <a:lnTo>
                    <a:pt x="3523" y="2451"/>
                  </a:lnTo>
                  <a:lnTo>
                    <a:pt x="3527" y="2452"/>
                  </a:lnTo>
                  <a:lnTo>
                    <a:pt x="3531" y="2453"/>
                  </a:lnTo>
                  <a:lnTo>
                    <a:pt x="3535" y="2454"/>
                  </a:lnTo>
                  <a:lnTo>
                    <a:pt x="3538" y="2455"/>
                  </a:lnTo>
                  <a:lnTo>
                    <a:pt x="3542" y="2456"/>
                  </a:lnTo>
                  <a:lnTo>
                    <a:pt x="3546" y="2457"/>
                  </a:lnTo>
                  <a:lnTo>
                    <a:pt x="3550" y="2458"/>
                  </a:lnTo>
                  <a:lnTo>
                    <a:pt x="3554" y="2459"/>
                  </a:lnTo>
                  <a:lnTo>
                    <a:pt x="3557" y="2460"/>
                  </a:lnTo>
                  <a:lnTo>
                    <a:pt x="3561" y="2461"/>
                  </a:lnTo>
                  <a:lnTo>
                    <a:pt x="3565" y="2462"/>
                  </a:lnTo>
                  <a:lnTo>
                    <a:pt x="3569" y="2462"/>
                  </a:lnTo>
                  <a:lnTo>
                    <a:pt x="3573" y="2463"/>
                  </a:lnTo>
                  <a:lnTo>
                    <a:pt x="3577" y="2464"/>
                  </a:lnTo>
                  <a:lnTo>
                    <a:pt x="3580" y="2465"/>
                  </a:lnTo>
                  <a:lnTo>
                    <a:pt x="3584" y="2466"/>
                  </a:lnTo>
                  <a:lnTo>
                    <a:pt x="3588" y="2467"/>
                  </a:lnTo>
                  <a:lnTo>
                    <a:pt x="3592" y="2468"/>
                  </a:lnTo>
                  <a:lnTo>
                    <a:pt x="3596" y="2469"/>
                  </a:lnTo>
                  <a:lnTo>
                    <a:pt x="3600" y="2470"/>
                  </a:lnTo>
                  <a:lnTo>
                    <a:pt x="3603" y="2471"/>
                  </a:lnTo>
                  <a:lnTo>
                    <a:pt x="3607" y="2472"/>
                  </a:lnTo>
                  <a:lnTo>
                    <a:pt x="3611" y="2473"/>
                  </a:lnTo>
                  <a:lnTo>
                    <a:pt x="3615" y="2473"/>
                  </a:lnTo>
                  <a:lnTo>
                    <a:pt x="3619" y="2474"/>
                  </a:lnTo>
                  <a:lnTo>
                    <a:pt x="3623" y="2475"/>
                  </a:lnTo>
                  <a:lnTo>
                    <a:pt x="3626" y="2476"/>
                  </a:lnTo>
                  <a:lnTo>
                    <a:pt x="3630" y="2477"/>
                  </a:lnTo>
                  <a:lnTo>
                    <a:pt x="3634" y="2478"/>
                  </a:lnTo>
                  <a:lnTo>
                    <a:pt x="3638" y="2479"/>
                  </a:lnTo>
                  <a:lnTo>
                    <a:pt x="3642" y="2480"/>
                  </a:lnTo>
                  <a:lnTo>
                    <a:pt x="3645" y="2481"/>
                  </a:lnTo>
                  <a:lnTo>
                    <a:pt x="3649" y="2482"/>
                  </a:lnTo>
                  <a:lnTo>
                    <a:pt x="3653" y="2483"/>
                  </a:lnTo>
                  <a:lnTo>
                    <a:pt x="3657" y="2484"/>
                  </a:lnTo>
                  <a:lnTo>
                    <a:pt x="3661" y="2485"/>
                  </a:lnTo>
                  <a:lnTo>
                    <a:pt x="3665" y="2485"/>
                  </a:lnTo>
                  <a:lnTo>
                    <a:pt x="3668" y="2486"/>
                  </a:lnTo>
                  <a:lnTo>
                    <a:pt x="3672" y="2487"/>
                  </a:lnTo>
                  <a:lnTo>
                    <a:pt x="3676" y="2488"/>
                  </a:lnTo>
                  <a:lnTo>
                    <a:pt x="3680" y="2489"/>
                  </a:lnTo>
                  <a:lnTo>
                    <a:pt x="3684" y="2490"/>
                  </a:lnTo>
                  <a:lnTo>
                    <a:pt x="3688" y="2491"/>
                  </a:lnTo>
                  <a:lnTo>
                    <a:pt x="3691" y="2492"/>
                  </a:lnTo>
                  <a:lnTo>
                    <a:pt x="3695" y="2493"/>
                  </a:lnTo>
                  <a:lnTo>
                    <a:pt x="3699" y="2494"/>
                  </a:lnTo>
                  <a:lnTo>
                    <a:pt x="3703" y="2495"/>
                  </a:lnTo>
                  <a:lnTo>
                    <a:pt x="3707" y="2496"/>
                  </a:lnTo>
                  <a:lnTo>
                    <a:pt x="3711" y="2497"/>
                  </a:lnTo>
                  <a:lnTo>
                    <a:pt x="3714" y="2498"/>
                  </a:lnTo>
                  <a:lnTo>
                    <a:pt x="3718" y="2499"/>
                  </a:lnTo>
                  <a:lnTo>
                    <a:pt x="3722" y="2500"/>
                  </a:lnTo>
                  <a:lnTo>
                    <a:pt x="3726" y="2501"/>
                  </a:lnTo>
                  <a:lnTo>
                    <a:pt x="3730" y="2502"/>
                  </a:lnTo>
                  <a:lnTo>
                    <a:pt x="3733" y="2503"/>
                  </a:lnTo>
                  <a:lnTo>
                    <a:pt x="3737" y="2504"/>
                  </a:lnTo>
                  <a:lnTo>
                    <a:pt x="3741" y="2505"/>
                  </a:lnTo>
                  <a:lnTo>
                    <a:pt x="3745" y="2505"/>
                  </a:lnTo>
                  <a:lnTo>
                    <a:pt x="3749" y="2506"/>
                  </a:lnTo>
                  <a:lnTo>
                    <a:pt x="3753" y="2507"/>
                  </a:lnTo>
                  <a:lnTo>
                    <a:pt x="3756" y="2508"/>
                  </a:lnTo>
                  <a:lnTo>
                    <a:pt x="3760" y="2509"/>
                  </a:lnTo>
                  <a:lnTo>
                    <a:pt x="3764" y="2510"/>
                  </a:lnTo>
                  <a:lnTo>
                    <a:pt x="3768" y="2511"/>
                  </a:lnTo>
                  <a:lnTo>
                    <a:pt x="3772" y="2512"/>
                  </a:lnTo>
                  <a:lnTo>
                    <a:pt x="3776" y="2513"/>
                  </a:lnTo>
                  <a:lnTo>
                    <a:pt x="3779" y="2514"/>
                  </a:lnTo>
                  <a:lnTo>
                    <a:pt x="3783" y="2515"/>
                  </a:lnTo>
                  <a:lnTo>
                    <a:pt x="3787" y="2516"/>
                  </a:lnTo>
                  <a:lnTo>
                    <a:pt x="3791" y="2517"/>
                  </a:lnTo>
                  <a:lnTo>
                    <a:pt x="3795" y="2518"/>
                  </a:lnTo>
                  <a:lnTo>
                    <a:pt x="3798" y="2519"/>
                  </a:lnTo>
                  <a:lnTo>
                    <a:pt x="3802" y="2521"/>
                  </a:lnTo>
                  <a:lnTo>
                    <a:pt x="3806" y="2522"/>
                  </a:lnTo>
                  <a:lnTo>
                    <a:pt x="3810" y="2523"/>
                  </a:lnTo>
                  <a:lnTo>
                    <a:pt x="3814" y="2524"/>
                  </a:lnTo>
                  <a:lnTo>
                    <a:pt x="3818" y="2525"/>
                  </a:lnTo>
                  <a:lnTo>
                    <a:pt x="3821" y="2526"/>
                  </a:lnTo>
                  <a:lnTo>
                    <a:pt x="3825" y="2527"/>
                  </a:lnTo>
                  <a:lnTo>
                    <a:pt x="3829" y="2528"/>
                  </a:lnTo>
                  <a:lnTo>
                    <a:pt x="3833" y="2529"/>
                  </a:lnTo>
                  <a:lnTo>
                    <a:pt x="3837" y="2530"/>
                  </a:lnTo>
                  <a:lnTo>
                    <a:pt x="3841" y="2531"/>
                  </a:lnTo>
                  <a:lnTo>
                    <a:pt x="3844" y="2532"/>
                  </a:lnTo>
                  <a:lnTo>
                    <a:pt x="3848" y="2533"/>
                  </a:lnTo>
                  <a:lnTo>
                    <a:pt x="3852" y="2534"/>
                  </a:lnTo>
                  <a:lnTo>
                    <a:pt x="3856" y="2535"/>
                  </a:lnTo>
                  <a:lnTo>
                    <a:pt x="3860" y="2536"/>
                  </a:lnTo>
                  <a:lnTo>
                    <a:pt x="3864" y="2537"/>
                  </a:lnTo>
                  <a:lnTo>
                    <a:pt x="3867" y="2538"/>
                  </a:lnTo>
                  <a:lnTo>
                    <a:pt x="3871" y="2540"/>
                  </a:lnTo>
                  <a:lnTo>
                    <a:pt x="3875" y="2541"/>
                  </a:lnTo>
                  <a:lnTo>
                    <a:pt x="3879" y="2542"/>
                  </a:lnTo>
                  <a:lnTo>
                    <a:pt x="3883" y="2543"/>
                  </a:lnTo>
                  <a:lnTo>
                    <a:pt x="3886" y="2544"/>
                  </a:lnTo>
                  <a:lnTo>
                    <a:pt x="3890" y="2545"/>
                  </a:lnTo>
                  <a:lnTo>
                    <a:pt x="3894" y="2546"/>
                  </a:lnTo>
                  <a:lnTo>
                    <a:pt x="3898" y="2547"/>
                  </a:lnTo>
                  <a:lnTo>
                    <a:pt x="3902" y="2548"/>
                  </a:lnTo>
                  <a:lnTo>
                    <a:pt x="3906" y="2549"/>
                  </a:lnTo>
                  <a:lnTo>
                    <a:pt x="3909" y="2551"/>
                  </a:lnTo>
                  <a:lnTo>
                    <a:pt x="3913" y="2552"/>
                  </a:lnTo>
                  <a:lnTo>
                    <a:pt x="3917" y="2553"/>
                  </a:lnTo>
                  <a:lnTo>
                    <a:pt x="3921" y="2554"/>
                  </a:lnTo>
                  <a:lnTo>
                    <a:pt x="3925" y="2555"/>
                  </a:lnTo>
                  <a:lnTo>
                    <a:pt x="3929" y="2556"/>
                  </a:lnTo>
                  <a:lnTo>
                    <a:pt x="3932" y="2557"/>
                  </a:lnTo>
                  <a:lnTo>
                    <a:pt x="3936" y="2559"/>
                  </a:lnTo>
                  <a:lnTo>
                    <a:pt x="3940" y="2560"/>
                  </a:lnTo>
                  <a:lnTo>
                    <a:pt x="3944" y="2561"/>
                  </a:lnTo>
                  <a:lnTo>
                    <a:pt x="3948" y="2562"/>
                  </a:lnTo>
                  <a:lnTo>
                    <a:pt x="3952" y="2563"/>
                  </a:lnTo>
                  <a:lnTo>
                    <a:pt x="3955" y="2564"/>
                  </a:lnTo>
                  <a:lnTo>
                    <a:pt x="3959" y="2565"/>
                  </a:lnTo>
                  <a:lnTo>
                    <a:pt x="3963" y="2567"/>
                  </a:lnTo>
                  <a:lnTo>
                    <a:pt x="3967" y="2568"/>
                  </a:lnTo>
                  <a:lnTo>
                    <a:pt x="3971" y="2569"/>
                  </a:lnTo>
                  <a:lnTo>
                    <a:pt x="3974" y="2570"/>
                  </a:lnTo>
                  <a:lnTo>
                    <a:pt x="3978" y="2571"/>
                  </a:lnTo>
                  <a:lnTo>
                    <a:pt x="3982" y="2572"/>
                  </a:lnTo>
                  <a:lnTo>
                    <a:pt x="3986" y="2574"/>
                  </a:lnTo>
                  <a:lnTo>
                    <a:pt x="3990" y="2575"/>
                  </a:lnTo>
                  <a:lnTo>
                    <a:pt x="3994" y="2576"/>
                  </a:lnTo>
                  <a:lnTo>
                    <a:pt x="3997" y="2577"/>
                  </a:lnTo>
                  <a:lnTo>
                    <a:pt x="4001" y="2578"/>
                  </a:lnTo>
                  <a:lnTo>
                    <a:pt x="4005" y="2579"/>
                  </a:lnTo>
                  <a:lnTo>
                    <a:pt x="4009" y="2581"/>
                  </a:lnTo>
                  <a:lnTo>
                    <a:pt x="4013" y="2582"/>
                  </a:lnTo>
                  <a:lnTo>
                    <a:pt x="4017" y="2583"/>
                  </a:lnTo>
                  <a:lnTo>
                    <a:pt x="4020" y="2584"/>
                  </a:lnTo>
                  <a:lnTo>
                    <a:pt x="4024" y="2585"/>
                  </a:lnTo>
                  <a:lnTo>
                    <a:pt x="4028" y="2587"/>
                  </a:lnTo>
                  <a:lnTo>
                    <a:pt x="4032" y="2588"/>
                  </a:lnTo>
                  <a:lnTo>
                    <a:pt x="4036" y="2589"/>
                  </a:lnTo>
                  <a:lnTo>
                    <a:pt x="4039" y="2590"/>
                  </a:lnTo>
                  <a:lnTo>
                    <a:pt x="4043" y="2591"/>
                  </a:lnTo>
                  <a:lnTo>
                    <a:pt x="4047" y="2593"/>
                  </a:lnTo>
                  <a:lnTo>
                    <a:pt x="4051" y="2594"/>
                  </a:lnTo>
                  <a:lnTo>
                    <a:pt x="4055" y="2595"/>
                  </a:lnTo>
                  <a:lnTo>
                    <a:pt x="4059" y="2596"/>
                  </a:lnTo>
                  <a:lnTo>
                    <a:pt x="4062" y="2597"/>
                  </a:lnTo>
                  <a:lnTo>
                    <a:pt x="4066" y="2598"/>
                  </a:lnTo>
                  <a:lnTo>
                    <a:pt x="4070" y="2600"/>
                  </a:lnTo>
                  <a:lnTo>
                    <a:pt x="4074" y="2601"/>
                  </a:lnTo>
                  <a:lnTo>
                    <a:pt x="4078" y="2602"/>
                  </a:lnTo>
                  <a:lnTo>
                    <a:pt x="4082" y="2603"/>
                  </a:lnTo>
                  <a:lnTo>
                    <a:pt x="4085" y="2604"/>
                  </a:lnTo>
                  <a:lnTo>
                    <a:pt x="4089" y="2606"/>
                  </a:lnTo>
                  <a:lnTo>
                    <a:pt x="4093" y="2607"/>
                  </a:lnTo>
                  <a:lnTo>
                    <a:pt x="4097" y="2608"/>
                  </a:lnTo>
                  <a:lnTo>
                    <a:pt x="4101" y="2609"/>
                  </a:lnTo>
                  <a:lnTo>
                    <a:pt x="4105" y="2610"/>
                  </a:lnTo>
                  <a:lnTo>
                    <a:pt x="4108" y="2611"/>
                  </a:lnTo>
                  <a:lnTo>
                    <a:pt x="4112" y="2613"/>
                  </a:lnTo>
                  <a:lnTo>
                    <a:pt x="4116" y="2614"/>
                  </a:lnTo>
                  <a:lnTo>
                    <a:pt x="4120" y="2615"/>
                  </a:lnTo>
                  <a:lnTo>
                    <a:pt x="4124" y="2616"/>
                  </a:lnTo>
                  <a:lnTo>
                    <a:pt x="4127" y="2617"/>
                  </a:lnTo>
                  <a:lnTo>
                    <a:pt x="4131" y="2618"/>
                  </a:lnTo>
                  <a:lnTo>
                    <a:pt x="4135" y="2620"/>
                  </a:lnTo>
                  <a:lnTo>
                    <a:pt x="4139" y="2621"/>
                  </a:lnTo>
                  <a:lnTo>
                    <a:pt x="4143" y="2622"/>
                  </a:lnTo>
                  <a:lnTo>
                    <a:pt x="4147" y="2623"/>
                  </a:lnTo>
                  <a:lnTo>
                    <a:pt x="4150" y="2624"/>
                  </a:lnTo>
                  <a:lnTo>
                    <a:pt x="4154" y="2625"/>
                  </a:lnTo>
                  <a:lnTo>
                    <a:pt x="4158" y="2626"/>
                  </a:lnTo>
                  <a:lnTo>
                    <a:pt x="4162" y="2627"/>
                  </a:lnTo>
                  <a:lnTo>
                    <a:pt x="4166" y="2629"/>
                  </a:lnTo>
                  <a:lnTo>
                    <a:pt x="4170" y="2630"/>
                  </a:lnTo>
                  <a:lnTo>
                    <a:pt x="4173" y="2631"/>
                  </a:lnTo>
                  <a:lnTo>
                    <a:pt x="4177" y="2632"/>
                  </a:lnTo>
                  <a:lnTo>
                    <a:pt x="4181" y="2633"/>
                  </a:lnTo>
                  <a:lnTo>
                    <a:pt x="4185" y="2634"/>
                  </a:lnTo>
                  <a:lnTo>
                    <a:pt x="4189" y="2635"/>
                  </a:lnTo>
                  <a:lnTo>
                    <a:pt x="4193" y="2636"/>
                  </a:lnTo>
                  <a:lnTo>
                    <a:pt x="4196" y="2637"/>
                  </a:lnTo>
                  <a:lnTo>
                    <a:pt x="4200" y="2638"/>
                  </a:lnTo>
                  <a:lnTo>
                    <a:pt x="4204" y="2639"/>
                  </a:lnTo>
                  <a:lnTo>
                    <a:pt x="4208" y="2640"/>
                  </a:lnTo>
                  <a:lnTo>
                    <a:pt x="4212" y="2641"/>
                  </a:lnTo>
                  <a:lnTo>
                    <a:pt x="4215" y="2642"/>
                  </a:lnTo>
                  <a:lnTo>
                    <a:pt x="4219" y="2643"/>
                  </a:lnTo>
                  <a:lnTo>
                    <a:pt x="4223" y="2644"/>
                  </a:lnTo>
                  <a:lnTo>
                    <a:pt x="4227" y="2645"/>
                  </a:lnTo>
                  <a:lnTo>
                    <a:pt x="4231" y="2646"/>
                  </a:lnTo>
                  <a:lnTo>
                    <a:pt x="4235" y="2647"/>
                  </a:lnTo>
                  <a:lnTo>
                    <a:pt x="4238" y="2648"/>
                  </a:lnTo>
                  <a:lnTo>
                    <a:pt x="4242" y="2649"/>
                  </a:lnTo>
                  <a:lnTo>
                    <a:pt x="4246" y="2650"/>
                  </a:lnTo>
                  <a:lnTo>
                    <a:pt x="4250" y="2651"/>
                  </a:lnTo>
                  <a:lnTo>
                    <a:pt x="4254" y="2652"/>
                  </a:lnTo>
                  <a:lnTo>
                    <a:pt x="4258" y="2653"/>
                  </a:lnTo>
                  <a:lnTo>
                    <a:pt x="4261" y="2653"/>
                  </a:lnTo>
                  <a:lnTo>
                    <a:pt x="4265" y="2654"/>
                  </a:lnTo>
                  <a:lnTo>
                    <a:pt x="4269" y="2655"/>
                  </a:lnTo>
                  <a:lnTo>
                    <a:pt x="4273" y="2656"/>
                  </a:lnTo>
                  <a:lnTo>
                    <a:pt x="4277" y="2657"/>
                  </a:lnTo>
                  <a:lnTo>
                    <a:pt x="4280" y="2658"/>
                  </a:lnTo>
                  <a:lnTo>
                    <a:pt x="4284" y="2658"/>
                  </a:lnTo>
                  <a:lnTo>
                    <a:pt x="4288" y="2659"/>
                  </a:lnTo>
                  <a:lnTo>
                    <a:pt x="4292" y="2660"/>
                  </a:lnTo>
                  <a:lnTo>
                    <a:pt x="4296" y="2661"/>
                  </a:lnTo>
                  <a:lnTo>
                    <a:pt x="4300" y="2661"/>
                  </a:lnTo>
                  <a:lnTo>
                    <a:pt x="4303" y="2662"/>
                  </a:lnTo>
                  <a:lnTo>
                    <a:pt x="4307" y="2663"/>
                  </a:lnTo>
                  <a:lnTo>
                    <a:pt x="4311" y="2663"/>
                  </a:lnTo>
                  <a:lnTo>
                    <a:pt x="4315" y="2664"/>
                  </a:lnTo>
                  <a:lnTo>
                    <a:pt x="4319" y="2665"/>
                  </a:lnTo>
                  <a:lnTo>
                    <a:pt x="4323" y="2665"/>
                  </a:lnTo>
                  <a:lnTo>
                    <a:pt x="4326" y="2666"/>
                  </a:lnTo>
                  <a:lnTo>
                    <a:pt x="4330" y="2666"/>
                  </a:lnTo>
                  <a:lnTo>
                    <a:pt x="4334" y="2667"/>
                  </a:lnTo>
                  <a:lnTo>
                    <a:pt x="4338" y="2667"/>
                  </a:lnTo>
                  <a:lnTo>
                    <a:pt x="4342" y="2668"/>
                  </a:lnTo>
                  <a:lnTo>
                    <a:pt x="4346" y="2668"/>
                  </a:lnTo>
                  <a:lnTo>
                    <a:pt x="4349" y="2669"/>
                  </a:lnTo>
                  <a:lnTo>
                    <a:pt x="4353" y="2669"/>
                  </a:lnTo>
                  <a:lnTo>
                    <a:pt x="4357" y="2670"/>
                  </a:lnTo>
                  <a:lnTo>
                    <a:pt x="4361" y="2670"/>
                  </a:lnTo>
                  <a:lnTo>
                    <a:pt x="4365" y="2670"/>
                  </a:lnTo>
                  <a:lnTo>
                    <a:pt x="4368" y="2671"/>
                  </a:lnTo>
                  <a:lnTo>
                    <a:pt x="4372" y="2671"/>
                  </a:lnTo>
                  <a:lnTo>
                    <a:pt x="4376" y="2671"/>
                  </a:lnTo>
                  <a:lnTo>
                    <a:pt x="4380" y="2672"/>
                  </a:lnTo>
                  <a:lnTo>
                    <a:pt x="4384" y="2672"/>
                  </a:lnTo>
                  <a:lnTo>
                    <a:pt x="4388" y="2672"/>
                  </a:lnTo>
                  <a:lnTo>
                    <a:pt x="4391" y="2672"/>
                  </a:lnTo>
                  <a:lnTo>
                    <a:pt x="4395" y="2672"/>
                  </a:lnTo>
                  <a:lnTo>
                    <a:pt x="4399" y="2672"/>
                  </a:lnTo>
                  <a:lnTo>
                    <a:pt x="4403" y="2672"/>
                  </a:lnTo>
                  <a:lnTo>
                    <a:pt x="4407" y="2673"/>
                  </a:lnTo>
                  <a:lnTo>
                    <a:pt x="4411" y="2673"/>
                  </a:lnTo>
                  <a:lnTo>
                    <a:pt x="4414" y="2673"/>
                  </a:lnTo>
                  <a:lnTo>
                    <a:pt x="4418" y="2672"/>
                  </a:lnTo>
                  <a:lnTo>
                    <a:pt x="4422" y="2672"/>
                  </a:lnTo>
                  <a:lnTo>
                    <a:pt x="4426" y="2672"/>
                  </a:lnTo>
                  <a:lnTo>
                    <a:pt x="4430" y="2672"/>
                  </a:lnTo>
                  <a:lnTo>
                    <a:pt x="4434" y="2672"/>
                  </a:lnTo>
                  <a:lnTo>
                    <a:pt x="4437" y="2672"/>
                  </a:lnTo>
                  <a:lnTo>
                    <a:pt x="4441" y="2672"/>
                  </a:lnTo>
                  <a:lnTo>
                    <a:pt x="4445" y="2671"/>
                  </a:lnTo>
                  <a:lnTo>
                    <a:pt x="4449" y="2671"/>
                  </a:lnTo>
                  <a:lnTo>
                    <a:pt x="4453" y="2671"/>
                  </a:lnTo>
                  <a:lnTo>
                    <a:pt x="4456" y="2670"/>
                  </a:lnTo>
                  <a:lnTo>
                    <a:pt x="4460" y="2670"/>
                  </a:lnTo>
                  <a:lnTo>
                    <a:pt x="4464" y="2669"/>
                  </a:lnTo>
                  <a:lnTo>
                    <a:pt x="4468" y="2669"/>
                  </a:lnTo>
                  <a:lnTo>
                    <a:pt x="4472" y="2668"/>
                  </a:lnTo>
                  <a:lnTo>
                    <a:pt x="4476" y="2668"/>
                  </a:lnTo>
                  <a:lnTo>
                    <a:pt x="4479" y="2667"/>
                  </a:lnTo>
                  <a:lnTo>
                    <a:pt x="4483" y="2666"/>
                  </a:lnTo>
                  <a:lnTo>
                    <a:pt x="4487" y="2666"/>
                  </a:lnTo>
                  <a:lnTo>
                    <a:pt x="4491" y="2665"/>
                  </a:lnTo>
                  <a:lnTo>
                    <a:pt x="4495" y="2664"/>
                  </a:lnTo>
                  <a:lnTo>
                    <a:pt x="4499" y="2663"/>
                  </a:lnTo>
                  <a:lnTo>
                    <a:pt x="4502" y="2662"/>
                  </a:lnTo>
                  <a:lnTo>
                    <a:pt x="4506" y="2661"/>
                  </a:lnTo>
                  <a:lnTo>
                    <a:pt x="4510" y="2660"/>
                  </a:lnTo>
                  <a:lnTo>
                    <a:pt x="4514" y="2659"/>
                  </a:lnTo>
                  <a:lnTo>
                    <a:pt x="4518" y="2658"/>
                  </a:lnTo>
                  <a:lnTo>
                    <a:pt x="4521" y="2657"/>
                  </a:lnTo>
                  <a:lnTo>
                    <a:pt x="4525" y="2656"/>
                  </a:lnTo>
                  <a:lnTo>
                    <a:pt x="4529" y="2655"/>
                  </a:lnTo>
                  <a:lnTo>
                    <a:pt x="4533" y="2653"/>
                  </a:lnTo>
                  <a:lnTo>
                    <a:pt x="4537" y="2652"/>
                  </a:lnTo>
                  <a:lnTo>
                    <a:pt x="4541" y="2651"/>
                  </a:lnTo>
                  <a:lnTo>
                    <a:pt x="4544" y="2649"/>
                  </a:lnTo>
                  <a:lnTo>
                    <a:pt x="4548" y="2648"/>
                  </a:lnTo>
                  <a:lnTo>
                    <a:pt x="4552" y="2646"/>
                  </a:lnTo>
                  <a:lnTo>
                    <a:pt x="4556" y="2644"/>
                  </a:lnTo>
                  <a:lnTo>
                    <a:pt x="4560" y="2643"/>
                  </a:lnTo>
                  <a:lnTo>
                    <a:pt x="4564" y="2641"/>
                  </a:lnTo>
                  <a:lnTo>
                    <a:pt x="4567" y="2639"/>
                  </a:lnTo>
                  <a:lnTo>
                    <a:pt x="4571" y="2637"/>
                  </a:lnTo>
                  <a:lnTo>
                    <a:pt x="4575" y="2635"/>
                  </a:lnTo>
                  <a:lnTo>
                    <a:pt x="4579" y="2633"/>
                  </a:lnTo>
                  <a:lnTo>
                    <a:pt x="4583" y="2631"/>
                  </a:lnTo>
                  <a:lnTo>
                    <a:pt x="4587" y="2629"/>
                  </a:lnTo>
                  <a:lnTo>
                    <a:pt x="4590" y="2627"/>
                  </a:lnTo>
                  <a:lnTo>
                    <a:pt x="4594" y="2625"/>
                  </a:lnTo>
                  <a:lnTo>
                    <a:pt x="4598" y="2623"/>
                  </a:lnTo>
                  <a:lnTo>
                    <a:pt x="4602" y="2620"/>
                  </a:lnTo>
                  <a:lnTo>
                    <a:pt x="4606" y="2618"/>
                  </a:lnTo>
                  <a:lnTo>
                    <a:pt x="4609" y="2615"/>
                  </a:lnTo>
                  <a:lnTo>
                    <a:pt x="4613" y="2613"/>
                  </a:lnTo>
                  <a:lnTo>
                    <a:pt x="4617" y="261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6480" y="5249880"/>
              <a:ext cx="51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 - 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436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 - 1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0148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 - 2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40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 - 3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5896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 - 4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752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 - 5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1464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 - 6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4320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 - 7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71760" y="5249880"/>
              <a:ext cx="61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 - 8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58920" y="5249880"/>
              <a:ext cx="71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30 - 13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6040" y="5249880"/>
              <a:ext cx="71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0 - 17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14600" y="5249880"/>
              <a:ext cx="71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90 - 299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2200" y="5407200"/>
              <a:ext cx="195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umber of Young People Participating</a:t>
              </a:r>
              <a:endParaRPr b="0" lang="en-US" sz="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-309600" y="2834280"/>
              <a:ext cx="140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umber of Projects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ngoing Developments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 Projects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700280"/>
            <a:ext cx="815796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-social modell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tional Interview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bivalent par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assess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tting interventions to problems ide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456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ncial Governance -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260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posal for ESF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147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Tahoma"/>
              </a:rPr>
              <a:t>Submission drawn up by An Garda Síochána in July 2006 submitted through the Dept of Justice, Equality and Law Reform to DET&amp;E in August 2006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Tahoma"/>
              </a:rPr>
              <a:t>Formal Approval given by Finance in February 2007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Tahoma"/>
              </a:rPr>
              <a:t>Priority under HCI-OP – Increasing participation and reducing inequality in the Labour Forc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o the value €25,106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- Sub Measure 1  €946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- Sub Measure 2  €24,160,000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IYJS_Logo_Small_Title"/>
          <p:cNvPicPr/>
          <p:nvPr/>
        </p:nvPicPr>
        <p:blipFill>
          <a:blip r:embed="rId2"/>
          <a:stretch/>
        </p:blipFill>
        <p:spPr>
          <a:xfrm>
            <a:off x="6372360" y="5946840"/>
            <a:ext cx="1441440" cy="911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684360" y="105264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7" descr="ESF logo - Harp"/>
          <p:cNvPicPr/>
          <p:nvPr/>
        </p:nvPicPr>
        <p:blipFill>
          <a:blip r:embed="rId3"/>
          <a:stretch/>
        </p:blipFill>
        <p:spPr>
          <a:xfrm>
            <a:off x="250920" y="6031080"/>
            <a:ext cx="3887640" cy="82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esf-logo Flag"/>
          <p:cNvPicPr/>
          <p:nvPr/>
        </p:nvPicPr>
        <p:blipFill>
          <a:blip r:embed="rId4"/>
          <a:stretch/>
        </p:blipFill>
        <p:spPr>
          <a:xfrm>
            <a:off x="4859280" y="6024600"/>
            <a:ext cx="1368360" cy="833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2268360" y="5589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vesting in your Futur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3:08:54Z</dcterms:created>
  <dc:creator>picketta</dc:creator>
  <dc:description/>
  <dc:language>en-US</dc:language>
  <cp:lastModifiedBy>paynea</cp:lastModifiedBy>
  <dcterms:modified xsi:type="dcterms:W3CDTF">2010-04-27T15:59:39Z</dcterms:modified>
  <cp:revision>29</cp:revision>
  <dc:subject/>
  <dc:title>Slide 1</dc:title>
</cp:coreProperties>
</file>